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84F3-816D-41FC-83BB-71FB74F2040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结合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处需结合软件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9CB-7D5F-4CCA-94B7-036F0182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346-E26A-4424-909A-03EEA4B5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A7E-247D-4973-ABC8-5ED26C13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11B-01DA-4323-AAAD-FDA9C39F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0C14-A8A8-489A-8861-F99A402C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6058-480A-4BB8-9799-E1B4C017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BCA4-2F89-4F7F-A14D-370CAB7C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1B46-8AE7-436F-8F30-1DF01B4E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EDD5-0C06-40DA-8C86-A506F5CD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195840"/>
            <a:ext cx="7772400" cy="10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C66E-C902-444E-96C9-95389924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1F7E-C91A-4476-9F32-8F4FBEDA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5566-216A-444A-A31C-AE05D5D8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4F5D-AB14-4A83-8805-233B262B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DDE2-E9EF-40A5-83FB-D2ABF54E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2301-0676-4792-8C4F-00309648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339E-3520-45BE-A0AD-4AAB0B34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FF4F-1524-403D-9E09-E0EEC24A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42B-1565-4E85-92B0-ADAD65B8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A4D-A3D1-40A0-B593-F5BF4BF2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ECB1-AA44-4FC2-AD88-F1A1B319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195840"/>
            <a:ext cx="7772400" cy="10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32B-3020-477B-ABC1-49C77B9C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EB59-D8B7-48E8-9C1F-C3157754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B9C1-41B2-4BED-B135-29C1AE04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AE81-838B-4A5D-A415-15AD5691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DF1E-95A6-4DAF-9854-E5933E3F5E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1B5E-CA42-4B80-9C0F-955483D67E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4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丛文联网报警中心系列软件介绍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266720" y="3505320"/>
            <a:ext cx="4419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深圳市丛文科技有限公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推广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丰富的系统设置功能（包括自动处理、自动打印、声音设置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857840" cy="348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级操作员权限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5315040" cy="364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报警联动地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图可放大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-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倍，比例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图格式为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图上定位用户，并可改变用户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590920" y="3200400"/>
          <a:ext cx="4572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200400"/>
                    <a:ext cx="4572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显示板显示用户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将相同类别的用户显示在同一表格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状态显示直观明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676520" y="3048120"/>
          <a:ext cx="609588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609588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电显示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具有来电显示的接收机，可记录其来电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383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4114800" cy="308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761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资料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详尽的用户、防区等资料使管理简单而快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举例：某小区每家用户安装一台小型报警主机（如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K23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K23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DEMCO41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C58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等，通过电话线的方式将警情报至报警管理中心，中心将实时监控用户状态，并以图标方式显示布撤防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23880" y="3505320"/>
          <a:ext cx="6885000" cy="20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05320"/>
                    <a:ext cx="688500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报警处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手动处理时可选择为预处理，并可在处理栏里填入处理及预处理的相关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133720" y="2819520"/>
            <a:ext cx="5105160" cy="36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详尽的报警记录，便于事后跟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2438280"/>
          <a:ext cx="73911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73911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大的查询统计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377208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报警联动输出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4114800" cy="354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丛文联网报警中心系列软件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丛文联网报警中心系列软件已应用于全国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家联网报警中心，已成为建立联网报警中心应用软件的首选之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方便用户使用，软件提供了多类软件及多种型号以配备不同的项目方案使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独立运作的警讯中心软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C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akerSigne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BakerSignet BT"/>
              </a:rPr>
              <a:t>具有信息转发功能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天网中心软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W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支持多工作台的服务器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作站形式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超级天网中心系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akerSigne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BakerSignet BT"/>
              </a:rPr>
              <a:t>支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限</a:t>
            </a:r>
            <a:r>
              <a:rPr b="0" lang="zh-CN" sz="2000" spc="-1" strike="noStrike">
                <a:solidFill>
                  <a:srgbClr val="000000"/>
                </a:solidFill>
                <a:latin typeface="BakerSignet BT"/>
              </a:rPr>
              <a:t>终端复制的，适合城市大联网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天眼中心系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专门配合天网中心使用的天网终端软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W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网报警中心系列软件当前最新版本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类工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报表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地图安装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报警代码编辑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加密锁升级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种类别型号，多种方案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选增值附件带来更多价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丛文短信平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丛文双向语音复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丛文双向复核接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4267080" y="30481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4952880" y="35812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4952880" y="41911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警讯中心—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独立运作的报警中心的首选之一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660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有联网报警中心系列软件的所有功能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适合于小型区域的报警中心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扩充为联网报警中心的二级终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天网中心—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构成多级多中心的必选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2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有警讯中心软件的所有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扩充其网络功能，可选择以下方式转发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串口直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短消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根据需要构成不同结构的多级联网报警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超级天网中心系统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城市级联网报警中心的最佳选择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60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有天网中心软件的所有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加强的网络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服务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作站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默认配置一个服务器带两个工作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无限增加工作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满足城市级联网报警中心的需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</a:rPr>
              <a:t>天眼中心系统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大型城市级联网报警中心的最佳选择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01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涵盖了警讯中心、天网中心及超级天网中心系统的所有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服务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地工作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远程工作站工作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终端软件无限制拷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增值产品—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短信平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1752480"/>
            <a:ext cx="3754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专业设计短信通讯模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，天线外置，通讯可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串口连接，安装方便，自带驱动程序，支持所有安防系列软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警情自动转发，并可自定义转发的时间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定义短信模板，可设置群发短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可作为短信报警接收机使用，当报警主机是无线报警主机时，可将短信平台作为短信报警接收机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09480" y="1523520"/>
            <a:ext cx="4560480" cy="3789720"/>
            <a:chOff x="609480" y="1523520"/>
            <a:chExt cx="4560480" cy="3789720"/>
          </a:xfrm>
        </p:grpSpPr>
        <p:sp>
          <p:nvSpPr>
            <p:cNvPr id="218" name=""/>
            <p:cNvSpPr/>
            <p:nvPr/>
          </p:nvSpPr>
          <p:spPr>
            <a:xfrm>
              <a:off x="3429000" y="3124080"/>
              <a:ext cx="800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天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805200" y="4038480"/>
              <a:ext cx="1185480" cy="695160"/>
              <a:chOff x="3805200" y="4038480"/>
              <a:chExt cx="1185480" cy="695160"/>
            </a:xfrm>
          </p:grpSpPr>
          <p:sp>
            <p:nvSpPr>
              <p:cNvPr id="220" name=""/>
              <p:cNvSpPr/>
              <p:nvPr/>
            </p:nvSpPr>
            <p:spPr>
              <a:xfrm>
                <a:off x="3805200" y="4331880"/>
                <a:ext cx="761400" cy="391320"/>
              </a:xfrm>
              <a:prstGeom prst="cube">
                <a:avLst>
                  <a:gd name="adj" fmla="val 5621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4796640" y="4038480"/>
                <a:ext cx="194040" cy="486000"/>
                <a:chOff x="4796640" y="4038480"/>
                <a:chExt cx="194040" cy="4860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4796640" y="4412160"/>
                  <a:ext cx="194040" cy="1123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866120" y="4393440"/>
                  <a:ext cx="56520" cy="583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4894920" y="4089960"/>
                  <a:ext cx="0" cy="316080"/>
                </a:xfrm>
                <a:prstGeom prst="line">
                  <a:avLst/>
                </a:prstGeom>
                <a:ln w="2844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4810680" y="4398480"/>
                  <a:ext cx="70560" cy="39240"/>
                </a:xfrm>
                <a:prstGeom prst="line">
                  <a:avLst/>
                </a:prstGeom>
                <a:ln w="936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 flipV="1">
                  <a:off x="4905720" y="4395960"/>
                  <a:ext cx="81000" cy="54000"/>
                </a:xfrm>
                <a:prstGeom prst="line">
                  <a:avLst/>
                </a:prstGeom>
                <a:ln w="936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872960" y="4038480"/>
                  <a:ext cx="40680" cy="58320"/>
                </a:xfrm>
                <a:prstGeom prst="ellipse">
                  <a:avLst/>
                </a:prstGeom>
                <a:solidFill>
                  <a:srgbClr val="333300"/>
                </a:solidFill>
                <a:ln w="936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4545000" y="4503960"/>
                <a:ext cx="358560" cy="229680"/>
              </a:xfrm>
              <a:custGeom>
                <a:avLst/>
                <a:gdLst/>
                <a:ahLst/>
                <a:rect l="l" t="t" r="r" b="b"/>
                <a:pathLst>
                  <a:path w="495" h="236">
                    <a:moveTo>
                      <a:pt x="0" y="30"/>
                    </a:moveTo>
                    <a:cubicBezTo>
                      <a:pt x="30" y="40"/>
                      <a:pt x="68" y="38"/>
                      <a:pt x="90" y="60"/>
                    </a:cubicBezTo>
                    <a:cubicBezTo>
                      <a:pt x="146" y="116"/>
                      <a:pt x="115" y="98"/>
                      <a:pt x="180" y="120"/>
                    </a:cubicBezTo>
                    <a:cubicBezTo>
                      <a:pt x="209" y="236"/>
                      <a:pt x="228" y="212"/>
                      <a:pt x="345" y="195"/>
                    </a:cubicBezTo>
                    <a:cubicBezTo>
                      <a:pt x="465" y="155"/>
                      <a:pt x="325" y="215"/>
                      <a:pt x="405" y="135"/>
                    </a:cubicBezTo>
                    <a:cubicBezTo>
                      <a:pt x="416" y="124"/>
                      <a:pt x="435" y="125"/>
                      <a:pt x="450" y="120"/>
                    </a:cubicBezTo>
                    <a:cubicBezTo>
                      <a:pt x="478" y="78"/>
                      <a:pt x="495" y="50"/>
                      <a:pt x="49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657600" y="4800600"/>
              <a:ext cx="9144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短信通讯模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480" y="4191120"/>
              <a:ext cx="914400" cy="89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报警中心接收机或大型报警主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4267080" y="3147480"/>
              <a:ext cx="314640" cy="678960"/>
              <a:chOff x="4267080" y="3147480"/>
              <a:chExt cx="314640" cy="678960"/>
            </a:xfrm>
          </p:grpSpPr>
          <p:sp>
            <p:nvSpPr>
              <p:cNvPr id="232" name=""/>
              <p:cNvSpPr/>
              <p:nvPr/>
            </p:nvSpPr>
            <p:spPr>
              <a:xfrm>
                <a:off x="4267080" y="3147480"/>
                <a:ext cx="62280" cy="39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4329720" y="3422160"/>
                <a:ext cx="6912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12160" y="3430440"/>
                <a:ext cx="169560" cy="39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4001400" y="2972160"/>
              <a:ext cx="128520" cy="761040"/>
              <a:chOff x="4001400" y="2972160"/>
              <a:chExt cx="128520" cy="761040"/>
            </a:xfrm>
          </p:grpSpPr>
          <p:sp>
            <p:nvSpPr>
              <p:cNvPr id="236" name=""/>
              <p:cNvSpPr/>
              <p:nvPr/>
            </p:nvSpPr>
            <p:spPr>
              <a:xfrm flipH="1">
                <a:off x="4001400" y="2972160"/>
                <a:ext cx="123840" cy="39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4001760" y="3281760"/>
                <a:ext cx="119160" cy="8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4104720" y="3294360"/>
                <a:ext cx="25200" cy="43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2819520" y="1523520"/>
              <a:ext cx="1131480" cy="614880"/>
              <a:chOff x="2819520" y="1523520"/>
              <a:chExt cx="1131480" cy="614880"/>
            </a:xfrm>
          </p:grpSpPr>
          <p:sp>
            <p:nvSpPr>
              <p:cNvPr id="240" name=""/>
              <p:cNvSpPr/>
              <p:nvPr/>
            </p:nvSpPr>
            <p:spPr>
              <a:xfrm>
                <a:off x="2819520" y="1586520"/>
                <a:ext cx="924120" cy="551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SMS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无线报警主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748320" y="1523520"/>
                <a:ext cx="202680" cy="311760"/>
                <a:chOff x="3748320" y="1523520"/>
                <a:chExt cx="202680" cy="3117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748320" y="1835280"/>
                  <a:ext cx="148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3900960" y="1523520"/>
                  <a:ext cx="0" cy="3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 flipV="1">
                  <a:off x="3844080" y="1543320"/>
                  <a:ext cx="5688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V="1">
                  <a:off x="3900960" y="1543320"/>
                  <a:ext cx="50040" cy="51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"/>
            <p:cNvGrpSpPr/>
            <p:nvPr/>
          </p:nvGrpSpPr>
          <p:grpSpPr>
            <a:xfrm>
              <a:off x="4687560" y="3390480"/>
              <a:ext cx="302760" cy="534600"/>
              <a:chOff x="4687560" y="3390480"/>
              <a:chExt cx="302760" cy="534600"/>
            </a:xfrm>
          </p:grpSpPr>
          <p:sp>
            <p:nvSpPr>
              <p:cNvPr id="247" name=""/>
              <p:cNvSpPr/>
              <p:nvPr/>
            </p:nvSpPr>
            <p:spPr>
              <a:xfrm flipV="1">
                <a:off x="4687560" y="3624480"/>
                <a:ext cx="75960" cy="30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63520" y="3624840"/>
                <a:ext cx="49680" cy="8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4825080" y="3390480"/>
                <a:ext cx="165240" cy="31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 flipH="1" rot="742800">
              <a:off x="4876560" y="2057040"/>
              <a:ext cx="199800" cy="892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51" name=""/>
            <p:cNvGraphicFramePr/>
            <p:nvPr/>
          </p:nvGraphicFramePr>
          <p:xfrm>
            <a:off x="1828800" y="3809880"/>
            <a:ext cx="1314360" cy="1503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8800" y="3809880"/>
                      <a:ext cx="1314360" cy="150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3" name=""/>
            <p:cNvSpPr/>
            <p:nvPr/>
          </p:nvSpPr>
          <p:spPr>
            <a:xfrm>
              <a:off x="1523880" y="4572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71800" y="457200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24080" y="4267080"/>
              <a:ext cx="4572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串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23880" y="4267080"/>
              <a:ext cx="4572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串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4"/>
            <a:stretch/>
          </p:blipFill>
          <p:spPr>
            <a:xfrm>
              <a:off x="3886200" y="1981080"/>
              <a:ext cx="45720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联网报警中心系列软件增值产品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双向语音复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143000" y="1600200"/>
            <a:ext cx="7535880" cy="3865680"/>
            <a:chOff x="1143000" y="1600200"/>
            <a:chExt cx="7535880" cy="3865680"/>
          </a:xfrm>
        </p:grpSpPr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6962760" y="3988080"/>
              <a:ext cx="1440000" cy="104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2"/>
            <a:stretch/>
          </p:blipFill>
          <p:spPr>
            <a:xfrm>
              <a:off x="2427480" y="3889440"/>
              <a:ext cx="122400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3"/>
            <a:stretch/>
          </p:blipFill>
          <p:spPr>
            <a:xfrm>
              <a:off x="4521240" y="3969000"/>
              <a:ext cx="93528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4"/>
            <a:stretch/>
          </p:blipFill>
          <p:spPr>
            <a:xfrm>
              <a:off x="3722760" y="4276800"/>
              <a:ext cx="39996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 flipV="1">
              <a:off x="6807240" y="2679480"/>
              <a:ext cx="21600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40320" y="5031000"/>
              <a:ext cx="10177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电话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1880" y="5085000"/>
              <a:ext cx="1114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双向语音警情自动覆核系统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5"/>
            <a:stretch/>
          </p:blipFill>
          <p:spPr>
            <a:xfrm>
              <a:off x="6518520" y="1600200"/>
              <a:ext cx="2160360" cy="18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5942160" y="2248200"/>
              <a:ext cx="11509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AVM2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电话语音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19760" y="2622600"/>
              <a:ext cx="11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3854520" y="2392560"/>
              <a:ext cx="1963800" cy="841320"/>
              <a:chOff x="3854520" y="2392560"/>
              <a:chExt cx="1963800" cy="84132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4573800" y="2392560"/>
                <a:ext cx="1244520" cy="731520"/>
                <a:chOff x="4573800" y="2392560"/>
                <a:chExt cx="1244520" cy="7315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594320" y="2392560"/>
                  <a:ext cx="1224000" cy="458640"/>
                </a:xfrm>
                <a:prstGeom prst="rect">
                  <a:avLst/>
                </a:prstGeom>
                <a:solidFill>
                  <a:srgbClr val="ffffff"/>
                </a:solidFill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621320" y="2417760"/>
                  <a:ext cx="1168200" cy="407880"/>
                </a:xfrm>
                <a:custGeom>
                  <a:avLst/>
                  <a:gdLst/>
                  <a:ahLst/>
                  <a:rect l="l" t="t" r="r" b="b"/>
                  <a:pathLst>
                    <a:path w="1176" h="325">
                      <a:moveTo>
                        <a:pt x="891" y="224"/>
                      </a:moveTo>
                      <a:lnTo>
                        <a:pt x="893" y="218"/>
                      </a:lnTo>
                      <a:lnTo>
                        <a:pt x="898" y="212"/>
                      </a:lnTo>
                      <a:lnTo>
                        <a:pt x="906" y="210"/>
                      </a:lnTo>
                      <a:lnTo>
                        <a:pt x="914" y="210"/>
                      </a:lnTo>
                      <a:lnTo>
                        <a:pt x="921" y="212"/>
                      </a:lnTo>
                      <a:lnTo>
                        <a:pt x="927" y="218"/>
                      </a:lnTo>
                      <a:lnTo>
                        <a:pt x="928" y="224"/>
                      </a:lnTo>
                      <a:lnTo>
                        <a:pt x="927" y="230"/>
                      </a:lnTo>
                      <a:lnTo>
                        <a:pt x="921" y="234"/>
                      </a:lnTo>
                      <a:lnTo>
                        <a:pt x="914" y="238"/>
                      </a:lnTo>
                      <a:lnTo>
                        <a:pt x="906" y="238"/>
                      </a:lnTo>
                      <a:lnTo>
                        <a:pt x="898" y="234"/>
                      </a:lnTo>
                      <a:lnTo>
                        <a:pt x="893" y="230"/>
                      </a:lnTo>
                      <a:lnTo>
                        <a:pt x="891" y="224"/>
                      </a:lnTo>
                      <a:close/>
                      <a:moveTo>
                        <a:pt x="967" y="224"/>
                      </a:moveTo>
                      <a:lnTo>
                        <a:pt x="968" y="218"/>
                      </a:lnTo>
                      <a:lnTo>
                        <a:pt x="974" y="212"/>
                      </a:lnTo>
                      <a:lnTo>
                        <a:pt x="981" y="210"/>
                      </a:lnTo>
                      <a:lnTo>
                        <a:pt x="989" y="210"/>
                      </a:lnTo>
                      <a:lnTo>
                        <a:pt x="998" y="212"/>
                      </a:lnTo>
                      <a:lnTo>
                        <a:pt x="1002" y="218"/>
                      </a:lnTo>
                      <a:lnTo>
                        <a:pt x="1005" y="224"/>
                      </a:lnTo>
                      <a:lnTo>
                        <a:pt x="1002" y="230"/>
                      </a:lnTo>
                      <a:lnTo>
                        <a:pt x="998" y="234"/>
                      </a:lnTo>
                      <a:lnTo>
                        <a:pt x="989" y="238"/>
                      </a:lnTo>
                      <a:lnTo>
                        <a:pt x="981" y="238"/>
                      </a:lnTo>
                      <a:lnTo>
                        <a:pt x="974" y="234"/>
                      </a:lnTo>
                      <a:lnTo>
                        <a:pt x="968" y="230"/>
                      </a:lnTo>
                      <a:lnTo>
                        <a:pt x="967" y="224"/>
                      </a:lnTo>
                      <a:close/>
                      <a:moveTo>
                        <a:pt x="1042" y="224"/>
                      </a:moveTo>
                      <a:lnTo>
                        <a:pt x="1045" y="218"/>
                      </a:lnTo>
                      <a:lnTo>
                        <a:pt x="1049" y="212"/>
                      </a:lnTo>
                      <a:lnTo>
                        <a:pt x="1058" y="210"/>
                      </a:lnTo>
                      <a:lnTo>
                        <a:pt x="1066" y="210"/>
                      </a:lnTo>
                      <a:lnTo>
                        <a:pt x="1073" y="212"/>
                      </a:lnTo>
                      <a:lnTo>
                        <a:pt x="1079" y="218"/>
                      </a:lnTo>
                      <a:lnTo>
                        <a:pt x="1080" y="224"/>
                      </a:lnTo>
                      <a:lnTo>
                        <a:pt x="1079" y="230"/>
                      </a:lnTo>
                      <a:lnTo>
                        <a:pt x="1073" y="234"/>
                      </a:lnTo>
                      <a:lnTo>
                        <a:pt x="1066" y="238"/>
                      </a:lnTo>
                      <a:lnTo>
                        <a:pt x="1058" y="238"/>
                      </a:lnTo>
                      <a:lnTo>
                        <a:pt x="1049" y="234"/>
                      </a:lnTo>
                      <a:lnTo>
                        <a:pt x="1045" y="230"/>
                      </a:lnTo>
                      <a:lnTo>
                        <a:pt x="1042" y="224"/>
                      </a:lnTo>
                      <a:close/>
                      <a:moveTo>
                        <a:pt x="815" y="280"/>
                      </a:moveTo>
                      <a:lnTo>
                        <a:pt x="817" y="274"/>
                      </a:lnTo>
                      <a:lnTo>
                        <a:pt x="822" y="270"/>
                      </a:lnTo>
                      <a:lnTo>
                        <a:pt x="829" y="266"/>
                      </a:lnTo>
                      <a:lnTo>
                        <a:pt x="838" y="266"/>
                      </a:lnTo>
                      <a:lnTo>
                        <a:pt x="846" y="270"/>
                      </a:lnTo>
                      <a:lnTo>
                        <a:pt x="851" y="274"/>
                      </a:lnTo>
                      <a:lnTo>
                        <a:pt x="853" y="280"/>
                      </a:lnTo>
                      <a:lnTo>
                        <a:pt x="851" y="286"/>
                      </a:lnTo>
                      <a:lnTo>
                        <a:pt x="846" y="292"/>
                      </a:lnTo>
                      <a:lnTo>
                        <a:pt x="838" y="294"/>
                      </a:lnTo>
                      <a:lnTo>
                        <a:pt x="829" y="294"/>
                      </a:lnTo>
                      <a:lnTo>
                        <a:pt x="822" y="292"/>
                      </a:lnTo>
                      <a:lnTo>
                        <a:pt x="817" y="286"/>
                      </a:lnTo>
                      <a:lnTo>
                        <a:pt x="815" y="280"/>
                      </a:lnTo>
                      <a:close/>
                      <a:moveTo>
                        <a:pt x="891" y="280"/>
                      </a:moveTo>
                      <a:lnTo>
                        <a:pt x="893" y="274"/>
                      </a:lnTo>
                      <a:lnTo>
                        <a:pt x="898" y="270"/>
                      </a:lnTo>
                      <a:lnTo>
                        <a:pt x="906" y="266"/>
                      </a:lnTo>
                      <a:lnTo>
                        <a:pt x="914" y="266"/>
                      </a:lnTo>
                      <a:lnTo>
                        <a:pt x="921" y="270"/>
                      </a:lnTo>
                      <a:lnTo>
                        <a:pt x="927" y="274"/>
                      </a:lnTo>
                      <a:lnTo>
                        <a:pt x="928" y="280"/>
                      </a:lnTo>
                      <a:lnTo>
                        <a:pt x="927" y="286"/>
                      </a:lnTo>
                      <a:lnTo>
                        <a:pt x="921" y="292"/>
                      </a:lnTo>
                      <a:lnTo>
                        <a:pt x="914" y="294"/>
                      </a:lnTo>
                      <a:lnTo>
                        <a:pt x="906" y="294"/>
                      </a:lnTo>
                      <a:lnTo>
                        <a:pt x="898" y="292"/>
                      </a:lnTo>
                      <a:lnTo>
                        <a:pt x="893" y="286"/>
                      </a:lnTo>
                      <a:lnTo>
                        <a:pt x="891" y="280"/>
                      </a:lnTo>
                      <a:close/>
                      <a:moveTo>
                        <a:pt x="967" y="280"/>
                      </a:moveTo>
                      <a:lnTo>
                        <a:pt x="968" y="274"/>
                      </a:lnTo>
                      <a:lnTo>
                        <a:pt x="974" y="270"/>
                      </a:lnTo>
                      <a:lnTo>
                        <a:pt x="981" y="266"/>
                      </a:lnTo>
                      <a:lnTo>
                        <a:pt x="989" y="266"/>
                      </a:lnTo>
                      <a:lnTo>
                        <a:pt x="998" y="270"/>
                      </a:lnTo>
                      <a:lnTo>
                        <a:pt x="1002" y="274"/>
                      </a:lnTo>
                      <a:lnTo>
                        <a:pt x="1005" y="280"/>
                      </a:lnTo>
                      <a:lnTo>
                        <a:pt x="1002" y="286"/>
                      </a:lnTo>
                      <a:lnTo>
                        <a:pt x="998" y="292"/>
                      </a:lnTo>
                      <a:lnTo>
                        <a:pt x="989" y="294"/>
                      </a:lnTo>
                      <a:lnTo>
                        <a:pt x="981" y="294"/>
                      </a:lnTo>
                      <a:lnTo>
                        <a:pt x="974" y="292"/>
                      </a:lnTo>
                      <a:lnTo>
                        <a:pt x="968" y="286"/>
                      </a:lnTo>
                      <a:lnTo>
                        <a:pt x="967" y="280"/>
                      </a:lnTo>
                      <a:close/>
                      <a:moveTo>
                        <a:pt x="1042" y="280"/>
                      </a:moveTo>
                      <a:lnTo>
                        <a:pt x="1045" y="274"/>
                      </a:lnTo>
                      <a:lnTo>
                        <a:pt x="1049" y="270"/>
                      </a:lnTo>
                      <a:lnTo>
                        <a:pt x="1058" y="266"/>
                      </a:lnTo>
                      <a:lnTo>
                        <a:pt x="1066" y="266"/>
                      </a:lnTo>
                      <a:lnTo>
                        <a:pt x="1073" y="270"/>
                      </a:lnTo>
                      <a:lnTo>
                        <a:pt x="1079" y="274"/>
                      </a:lnTo>
                      <a:lnTo>
                        <a:pt x="1080" y="280"/>
                      </a:lnTo>
                      <a:lnTo>
                        <a:pt x="1079" y="286"/>
                      </a:lnTo>
                      <a:lnTo>
                        <a:pt x="1073" y="292"/>
                      </a:lnTo>
                      <a:lnTo>
                        <a:pt x="1066" y="294"/>
                      </a:lnTo>
                      <a:lnTo>
                        <a:pt x="1058" y="294"/>
                      </a:lnTo>
                      <a:lnTo>
                        <a:pt x="1049" y="292"/>
                      </a:lnTo>
                      <a:lnTo>
                        <a:pt x="1045" y="286"/>
                      </a:lnTo>
                      <a:lnTo>
                        <a:pt x="1042" y="280"/>
                      </a:lnTo>
                      <a:close/>
                      <a:moveTo>
                        <a:pt x="815" y="166"/>
                      </a:moveTo>
                      <a:lnTo>
                        <a:pt x="817" y="160"/>
                      </a:lnTo>
                      <a:lnTo>
                        <a:pt x="822" y="156"/>
                      </a:lnTo>
                      <a:lnTo>
                        <a:pt x="829" y="153"/>
                      </a:lnTo>
                      <a:lnTo>
                        <a:pt x="838" y="153"/>
                      </a:lnTo>
                      <a:lnTo>
                        <a:pt x="846" y="156"/>
                      </a:lnTo>
                      <a:lnTo>
                        <a:pt x="851" y="160"/>
                      </a:lnTo>
                      <a:lnTo>
                        <a:pt x="853" y="166"/>
                      </a:lnTo>
                      <a:lnTo>
                        <a:pt x="851" y="173"/>
                      </a:lnTo>
                      <a:lnTo>
                        <a:pt x="846" y="178"/>
                      </a:lnTo>
                      <a:lnTo>
                        <a:pt x="838" y="180"/>
                      </a:lnTo>
                      <a:lnTo>
                        <a:pt x="829" y="180"/>
                      </a:lnTo>
                      <a:lnTo>
                        <a:pt x="822" y="178"/>
                      </a:lnTo>
                      <a:lnTo>
                        <a:pt x="817" y="173"/>
                      </a:lnTo>
                      <a:lnTo>
                        <a:pt x="815" y="166"/>
                      </a:lnTo>
                      <a:close/>
                      <a:moveTo>
                        <a:pt x="891" y="166"/>
                      </a:moveTo>
                      <a:lnTo>
                        <a:pt x="893" y="160"/>
                      </a:lnTo>
                      <a:lnTo>
                        <a:pt x="898" y="156"/>
                      </a:lnTo>
                      <a:lnTo>
                        <a:pt x="906" y="153"/>
                      </a:lnTo>
                      <a:lnTo>
                        <a:pt x="914" y="153"/>
                      </a:lnTo>
                      <a:lnTo>
                        <a:pt x="921" y="156"/>
                      </a:lnTo>
                      <a:lnTo>
                        <a:pt x="927" y="160"/>
                      </a:lnTo>
                      <a:lnTo>
                        <a:pt x="928" y="166"/>
                      </a:lnTo>
                      <a:lnTo>
                        <a:pt x="927" y="173"/>
                      </a:lnTo>
                      <a:lnTo>
                        <a:pt x="921" y="178"/>
                      </a:lnTo>
                      <a:lnTo>
                        <a:pt x="914" y="180"/>
                      </a:lnTo>
                      <a:lnTo>
                        <a:pt x="906" y="180"/>
                      </a:lnTo>
                      <a:lnTo>
                        <a:pt x="898" y="178"/>
                      </a:lnTo>
                      <a:lnTo>
                        <a:pt x="893" y="173"/>
                      </a:lnTo>
                      <a:lnTo>
                        <a:pt x="891" y="166"/>
                      </a:lnTo>
                      <a:close/>
                      <a:moveTo>
                        <a:pt x="967" y="166"/>
                      </a:moveTo>
                      <a:lnTo>
                        <a:pt x="968" y="160"/>
                      </a:lnTo>
                      <a:lnTo>
                        <a:pt x="974" y="156"/>
                      </a:lnTo>
                      <a:lnTo>
                        <a:pt x="981" y="153"/>
                      </a:lnTo>
                      <a:lnTo>
                        <a:pt x="989" y="153"/>
                      </a:lnTo>
                      <a:lnTo>
                        <a:pt x="998" y="156"/>
                      </a:lnTo>
                      <a:lnTo>
                        <a:pt x="1002" y="160"/>
                      </a:lnTo>
                      <a:lnTo>
                        <a:pt x="1005" y="166"/>
                      </a:lnTo>
                      <a:lnTo>
                        <a:pt x="1002" y="173"/>
                      </a:lnTo>
                      <a:lnTo>
                        <a:pt x="998" y="178"/>
                      </a:lnTo>
                      <a:lnTo>
                        <a:pt x="989" y="180"/>
                      </a:lnTo>
                      <a:lnTo>
                        <a:pt x="981" y="180"/>
                      </a:lnTo>
                      <a:lnTo>
                        <a:pt x="974" y="178"/>
                      </a:lnTo>
                      <a:lnTo>
                        <a:pt x="968" y="173"/>
                      </a:lnTo>
                      <a:lnTo>
                        <a:pt x="967" y="166"/>
                      </a:lnTo>
                      <a:close/>
                      <a:moveTo>
                        <a:pt x="1042" y="166"/>
                      </a:moveTo>
                      <a:lnTo>
                        <a:pt x="1045" y="160"/>
                      </a:lnTo>
                      <a:lnTo>
                        <a:pt x="1049" y="156"/>
                      </a:lnTo>
                      <a:lnTo>
                        <a:pt x="1058" y="153"/>
                      </a:lnTo>
                      <a:lnTo>
                        <a:pt x="1066" y="153"/>
                      </a:lnTo>
                      <a:lnTo>
                        <a:pt x="1073" y="156"/>
                      </a:lnTo>
                      <a:lnTo>
                        <a:pt x="1079" y="160"/>
                      </a:lnTo>
                      <a:lnTo>
                        <a:pt x="1080" y="166"/>
                      </a:lnTo>
                      <a:lnTo>
                        <a:pt x="1079" y="173"/>
                      </a:lnTo>
                      <a:lnTo>
                        <a:pt x="1073" y="178"/>
                      </a:lnTo>
                      <a:lnTo>
                        <a:pt x="1066" y="180"/>
                      </a:lnTo>
                      <a:lnTo>
                        <a:pt x="1058" y="180"/>
                      </a:lnTo>
                      <a:lnTo>
                        <a:pt x="1049" y="178"/>
                      </a:lnTo>
                      <a:lnTo>
                        <a:pt x="1045" y="173"/>
                      </a:lnTo>
                      <a:lnTo>
                        <a:pt x="1042" y="166"/>
                      </a:lnTo>
                      <a:close/>
                      <a:moveTo>
                        <a:pt x="815" y="110"/>
                      </a:moveTo>
                      <a:lnTo>
                        <a:pt x="817" y="104"/>
                      </a:lnTo>
                      <a:lnTo>
                        <a:pt x="822" y="99"/>
                      </a:lnTo>
                      <a:lnTo>
                        <a:pt x="829" y="96"/>
                      </a:lnTo>
                      <a:lnTo>
                        <a:pt x="838" y="96"/>
                      </a:lnTo>
                      <a:lnTo>
                        <a:pt x="846" y="99"/>
                      </a:lnTo>
                      <a:lnTo>
                        <a:pt x="851" y="104"/>
                      </a:lnTo>
                      <a:lnTo>
                        <a:pt x="853" y="110"/>
                      </a:lnTo>
                      <a:lnTo>
                        <a:pt x="851" y="116"/>
                      </a:lnTo>
                      <a:lnTo>
                        <a:pt x="846" y="120"/>
                      </a:lnTo>
                      <a:lnTo>
                        <a:pt x="838" y="124"/>
                      </a:lnTo>
                      <a:lnTo>
                        <a:pt x="829" y="124"/>
                      </a:lnTo>
                      <a:lnTo>
                        <a:pt x="822" y="120"/>
                      </a:lnTo>
                      <a:lnTo>
                        <a:pt x="817" y="116"/>
                      </a:lnTo>
                      <a:lnTo>
                        <a:pt x="815" y="110"/>
                      </a:lnTo>
                      <a:close/>
                      <a:moveTo>
                        <a:pt x="891" y="110"/>
                      </a:moveTo>
                      <a:lnTo>
                        <a:pt x="893" y="104"/>
                      </a:lnTo>
                      <a:lnTo>
                        <a:pt x="898" y="99"/>
                      </a:lnTo>
                      <a:lnTo>
                        <a:pt x="906" y="96"/>
                      </a:lnTo>
                      <a:lnTo>
                        <a:pt x="914" y="96"/>
                      </a:lnTo>
                      <a:lnTo>
                        <a:pt x="921" y="99"/>
                      </a:lnTo>
                      <a:lnTo>
                        <a:pt x="927" y="104"/>
                      </a:lnTo>
                      <a:lnTo>
                        <a:pt x="928" y="110"/>
                      </a:lnTo>
                      <a:lnTo>
                        <a:pt x="927" y="116"/>
                      </a:lnTo>
                      <a:lnTo>
                        <a:pt x="921" y="120"/>
                      </a:lnTo>
                      <a:lnTo>
                        <a:pt x="914" y="124"/>
                      </a:lnTo>
                      <a:lnTo>
                        <a:pt x="906" y="124"/>
                      </a:lnTo>
                      <a:lnTo>
                        <a:pt x="898" y="120"/>
                      </a:lnTo>
                      <a:lnTo>
                        <a:pt x="893" y="116"/>
                      </a:lnTo>
                      <a:lnTo>
                        <a:pt x="891" y="110"/>
                      </a:lnTo>
                      <a:close/>
                      <a:moveTo>
                        <a:pt x="967" y="110"/>
                      </a:moveTo>
                      <a:lnTo>
                        <a:pt x="968" y="104"/>
                      </a:lnTo>
                      <a:lnTo>
                        <a:pt x="974" y="99"/>
                      </a:lnTo>
                      <a:lnTo>
                        <a:pt x="981" y="96"/>
                      </a:lnTo>
                      <a:lnTo>
                        <a:pt x="989" y="96"/>
                      </a:lnTo>
                      <a:lnTo>
                        <a:pt x="998" y="99"/>
                      </a:lnTo>
                      <a:lnTo>
                        <a:pt x="1002" y="104"/>
                      </a:lnTo>
                      <a:lnTo>
                        <a:pt x="1005" y="110"/>
                      </a:lnTo>
                      <a:lnTo>
                        <a:pt x="1002" y="116"/>
                      </a:lnTo>
                      <a:lnTo>
                        <a:pt x="998" y="120"/>
                      </a:lnTo>
                      <a:lnTo>
                        <a:pt x="989" y="124"/>
                      </a:lnTo>
                      <a:lnTo>
                        <a:pt x="981" y="124"/>
                      </a:lnTo>
                      <a:lnTo>
                        <a:pt x="974" y="120"/>
                      </a:lnTo>
                      <a:lnTo>
                        <a:pt x="968" y="116"/>
                      </a:lnTo>
                      <a:lnTo>
                        <a:pt x="967" y="110"/>
                      </a:lnTo>
                      <a:close/>
                      <a:moveTo>
                        <a:pt x="1042" y="110"/>
                      </a:moveTo>
                      <a:lnTo>
                        <a:pt x="1045" y="104"/>
                      </a:lnTo>
                      <a:lnTo>
                        <a:pt x="1049" y="99"/>
                      </a:lnTo>
                      <a:lnTo>
                        <a:pt x="1058" y="96"/>
                      </a:lnTo>
                      <a:lnTo>
                        <a:pt x="1066" y="96"/>
                      </a:lnTo>
                      <a:lnTo>
                        <a:pt x="1073" y="99"/>
                      </a:lnTo>
                      <a:lnTo>
                        <a:pt x="1079" y="104"/>
                      </a:lnTo>
                      <a:lnTo>
                        <a:pt x="1080" y="110"/>
                      </a:lnTo>
                      <a:lnTo>
                        <a:pt x="1079" y="116"/>
                      </a:lnTo>
                      <a:lnTo>
                        <a:pt x="1073" y="120"/>
                      </a:lnTo>
                      <a:lnTo>
                        <a:pt x="1066" y="124"/>
                      </a:lnTo>
                      <a:lnTo>
                        <a:pt x="1058" y="124"/>
                      </a:lnTo>
                      <a:lnTo>
                        <a:pt x="1049" y="120"/>
                      </a:lnTo>
                      <a:lnTo>
                        <a:pt x="1045" y="116"/>
                      </a:lnTo>
                      <a:lnTo>
                        <a:pt x="1042" y="110"/>
                      </a:lnTo>
                      <a:close/>
                      <a:moveTo>
                        <a:pt x="815" y="53"/>
                      </a:moveTo>
                      <a:lnTo>
                        <a:pt x="817" y="46"/>
                      </a:lnTo>
                      <a:lnTo>
                        <a:pt x="822" y="41"/>
                      </a:lnTo>
                      <a:lnTo>
                        <a:pt x="829" y="39"/>
                      </a:lnTo>
                      <a:lnTo>
                        <a:pt x="838" y="39"/>
                      </a:lnTo>
                      <a:lnTo>
                        <a:pt x="846" y="41"/>
                      </a:lnTo>
                      <a:lnTo>
                        <a:pt x="851" y="46"/>
                      </a:lnTo>
                      <a:lnTo>
                        <a:pt x="853" y="53"/>
                      </a:lnTo>
                      <a:lnTo>
                        <a:pt x="851" y="59"/>
                      </a:lnTo>
                      <a:lnTo>
                        <a:pt x="846" y="64"/>
                      </a:lnTo>
                      <a:lnTo>
                        <a:pt x="838" y="66"/>
                      </a:lnTo>
                      <a:lnTo>
                        <a:pt x="829" y="66"/>
                      </a:lnTo>
                      <a:lnTo>
                        <a:pt x="822" y="64"/>
                      </a:lnTo>
                      <a:lnTo>
                        <a:pt x="817" y="59"/>
                      </a:lnTo>
                      <a:lnTo>
                        <a:pt x="815" y="53"/>
                      </a:lnTo>
                      <a:close/>
                      <a:moveTo>
                        <a:pt x="891" y="53"/>
                      </a:moveTo>
                      <a:lnTo>
                        <a:pt x="893" y="46"/>
                      </a:lnTo>
                      <a:lnTo>
                        <a:pt x="898" y="41"/>
                      </a:lnTo>
                      <a:lnTo>
                        <a:pt x="906" y="39"/>
                      </a:lnTo>
                      <a:lnTo>
                        <a:pt x="914" y="39"/>
                      </a:lnTo>
                      <a:lnTo>
                        <a:pt x="921" y="41"/>
                      </a:lnTo>
                      <a:lnTo>
                        <a:pt x="927" y="46"/>
                      </a:lnTo>
                      <a:lnTo>
                        <a:pt x="928" y="53"/>
                      </a:lnTo>
                      <a:lnTo>
                        <a:pt x="927" y="59"/>
                      </a:lnTo>
                      <a:lnTo>
                        <a:pt x="921" y="64"/>
                      </a:lnTo>
                      <a:lnTo>
                        <a:pt x="914" y="66"/>
                      </a:lnTo>
                      <a:lnTo>
                        <a:pt x="906" y="66"/>
                      </a:lnTo>
                      <a:lnTo>
                        <a:pt x="898" y="64"/>
                      </a:lnTo>
                      <a:lnTo>
                        <a:pt x="893" y="59"/>
                      </a:lnTo>
                      <a:lnTo>
                        <a:pt x="891" y="53"/>
                      </a:lnTo>
                      <a:close/>
                      <a:moveTo>
                        <a:pt x="967" y="53"/>
                      </a:moveTo>
                      <a:lnTo>
                        <a:pt x="968" y="46"/>
                      </a:lnTo>
                      <a:lnTo>
                        <a:pt x="974" y="41"/>
                      </a:lnTo>
                      <a:lnTo>
                        <a:pt x="981" y="39"/>
                      </a:lnTo>
                      <a:lnTo>
                        <a:pt x="989" y="39"/>
                      </a:lnTo>
                      <a:lnTo>
                        <a:pt x="998" y="41"/>
                      </a:lnTo>
                      <a:lnTo>
                        <a:pt x="1002" y="46"/>
                      </a:lnTo>
                      <a:lnTo>
                        <a:pt x="1005" y="53"/>
                      </a:lnTo>
                      <a:lnTo>
                        <a:pt x="1002" y="59"/>
                      </a:lnTo>
                      <a:lnTo>
                        <a:pt x="998" y="64"/>
                      </a:lnTo>
                      <a:lnTo>
                        <a:pt x="989" y="66"/>
                      </a:lnTo>
                      <a:lnTo>
                        <a:pt x="981" y="66"/>
                      </a:lnTo>
                      <a:lnTo>
                        <a:pt x="974" y="64"/>
                      </a:lnTo>
                      <a:lnTo>
                        <a:pt x="968" y="59"/>
                      </a:lnTo>
                      <a:lnTo>
                        <a:pt x="967" y="53"/>
                      </a:lnTo>
                      <a:close/>
                      <a:moveTo>
                        <a:pt x="1042" y="53"/>
                      </a:moveTo>
                      <a:lnTo>
                        <a:pt x="1045" y="46"/>
                      </a:lnTo>
                      <a:lnTo>
                        <a:pt x="1049" y="41"/>
                      </a:lnTo>
                      <a:lnTo>
                        <a:pt x="1058" y="39"/>
                      </a:lnTo>
                      <a:lnTo>
                        <a:pt x="1066" y="39"/>
                      </a:lnTo>
                      <a:lnTo>
                        <a:pt x="1073" y="41"/>
                      </a:lnTo>
                      <a:lnTo>
                        <a:pt x="1079" y="46"/>
                      </a:lnTo>
                      <a:lnTo>
                        <a:pt x="1080" y="53"/>
                      </a:lnTo>
                      <a:lnTo>
                        <a:pt x="1079" y="59"/>
                      </a:lnTo>
                      <a:lnTo>
                        <a:pt x="1073" y="64"/>
                      </a:lnTo>
                      <a:lnTo>
                        <a:pt x="1066" y="66"/>
                      </a:lnTo>
                      <a:lnTo>
                        <a:pt x="1058" y="66"/>
                      </a:lnTo>
                      <a:lnTo>
                        <a:pt x="1049" y="64"/>
                      </a:lnTo>
                      <a:lnTo>
                        <a:pt x="1045" y="59"/>
                      </a:lnTo>
                      <a:lnTo>
                        <a:pt x="1042" y="53"/>
                      </a:lnTo>
                      <a:close/>
                      <a:moveTo>
                        <a:pt x="815" y="224"/>
                      </a:moveTo>
                      <a:lnTo>
                        <a:pt x="817" y="218"/>
                      </a:lnTo>
                      <a:lnTo>
                        <a:pt x="822" y="212"/>
                      </a:lnTo>
                      <a:lnTo>
                        <a:pt x="829" y="210"/>
                      </a:lnTo>
                      <a:lnTo>
                        <a:pt x="838" y="210"/>
                      </a:lnTo>
                      <a:lnTo>
                        <a:pt x="846" y="212"/>
                      </a:lnTo>
                      <a:lnTo>
                        <a:pt x="851" y="218"/>
                      </a:lnTo>
                      <a:lnTo>
                        <a:pt x="853" y="224"/>
                      </a:lnTo>
                      <a:lnTo>
                        <a:pt x="851" y="230"/>
                      </a:lnTo>
                      <a:lnTo>
                        <a:pt x="846" y="234"/>
                      </a:lnTo>
                      <a:lnTo>
                        <a:pt x="838" y="238"/>
                      </a:lnTo>
                      <a:lnTo>
                        <a:pt x="829" y="238"/>
                      </a:lnTo>
                      <a:lnTo>
                        <a:pt x="822" y="234"/>
                      </a:lnTo>
                      <a:lnTo>
                        <a:pt x="817" y="230"/>
                      </a:lnTo>
                      <a:lnTo>
                        <a:pt x="815" y="224"/>
                      </a:lnTo>
                      <a:close/>
                      <a:moveTo>
                        <a:pt x="0" y="70"/>
                      </a:moveTo>
                      <a:lnTo>
                        <a:pt x="63" y="70"/>
                      </a:lnTo>
                      <a:lnTo>
                        <a:pt x="63" y="23"/>
                      </a:lnTo>
                      <a:lnTo>
                        <a:pt x="0" y="23"/>
                      </a:lnTo>
                      <a:lnTo>
                        <a:pt x="0" y="70"/>
                      </a:lnTo>
                      <a:close/>
                      <a:moveTo>
                        <a:pt x="93" y="23"/>
                      </a:moveTo>
                      <a:lnTo>
                        <a:pt x="712" y="23"/>
                      </a:lnTo>
                      <a:lnTo>
                        <a:pt x="712" y="70"/>
                      </a:lnTo>
                      <a:lnTo>
                        <a:pt x="93" y="70"/>
                      </a:lnTo>
                      <a:lnTo>
                        <a:pt x="93" y="23"/>
                      </a:lnTo>
                      <a:close/>
                      <a:moveTo>
                        <a:pt x="0" y="325"/>
                      </a:moveTo>
                      <a:lnTo>
                        <a:pt x="124" y="325"/>
                      </a:lnTo>
                      <a:lnTo>
                        <a:pt x="124" y="301"/>
                      </a:lnTo>
                      <a:lnTo>
                        <a:pt x="0" y="301"/>
                      </a:lnTo>
                      <a:lnTo>
                        <a:pt x="0" y="325"/>
                      </a:lnTo>
                      <a:close/>
                      <a:moveTo>
                        <a:pt x="778" y="325"/>
                      </a:moveTo>
                      <a:lnTo>
                        <a:pt x="1176" y="325"/>
                      </a:lnTo>
                      <a:lnTo>
                        <a:pt x="1176" y="0"/>
                      </a:lnTo>
                      <a:lnTo>
                        <a:pt x="778" y="0"/>
                      </a:lnTo>
                      <a:lnTo>
                        <a:pt x="778" y="3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573800" y="2908440"/>
                  <a:ext cx="1214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报警接收机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>
                <a:off x="4086360" y="257184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86360" y="268452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86360" y="279900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86360" y="245772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854520" y="2752920"/>
                <a:ext cx="819000" cy="4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电话线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flipV="1" rot="10800000">
              <a:off x="6342120" y="2678760"/>
              <a:ext cx="465120" cy="157320"/>
            </a:xfrm>
            <a:custGeom>
              <a:avLst/>
              <a:gdLst/>
              <a:ahLst/>
              <a:rect l="l" t="t" r="r" b="b"/>
              <a:pathLst>
                <a:path w="808" h="266">
                  <a:moveTo>
                    <a:pt x="0" y="0"/>
                  </a:moveTo>
                  <a:lnTo>
                    <a:pt x="0" y="227"/>
                  </a:lnTo>
                  <a:lnTo>
                    <a:pt x="311" y="227"/>
                  </a:lnTo>
                  <a:lnTo>
                    <a:pt x="310" y="266"/>
                  </a:lnTo>
                  <a:lnTo>
                    <a:pt x="808" y="266"/>
                  </a:lnTo>
                  <a:lnTo>
                    <a:pt x="8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6"/>
            <a:stretch/>
          </p:blipFill>
          <p:spPr>
            <a:xfrm>
              <a:off x="6531120" y="4276800"/>
              <a:ext cx="399960" cy="4064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82" name=""/>
            <p:cNvCxnSpPr>
              <a:stCxn id="262" idx="3"/>
              <a:endCxn id="280" idx="0"/>
            </p:cNvCxnSpPr>
            <p:nvPr/>
          </p:nvCxnSpPr>
          <p:spPr>
            <a:xfrm flipV="1">
              <a:off x="5456160" y="2836800"/>
              <a:ext cx="888120" cy="1637280"/>
            </a:xfrm>
            <a:prstGeom prst="bentConnector3">
              <a:avLst>
                <a:gd name="adj1" fmla="val 498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3" name=""/>
            <p:cNvCxnSpPr>
              <a:stCxn id="281" idx="1"/>
              <a:endCxn id="262" idx="3"/>
            </p:cNvCxnSpPr>
            <p:nvPr/>
          </p:nvCxnSpPr>
          <p:spPr>
            <a:xfrm flipH="1" flipV="1">
              <a:off x="5455800" y="4473360"/>
              <a:ext cx="107532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4" name=""/>
            <p:cNvCxnSpPr>
              <a:stCxn id="262" idx="1"/>
              <a:endCxn id="263" idx="3"/>
            </p:cNvCxnSpPr>
            <p:nvPr/>
          </p:nvCxnSpPr>
          <p:spPr>
            <a:xfrm flipH="1">
              <a:off x="4122000" y="4473720"/>
              <a:ext cx="39924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5" name=""/>
            <p:cNvSpPr/>
            <p:nvPr/>
          </p:nvSpPr>
          <p:spPr>
            <a:xfrm>
              <a:off x="2376720" y="2551320"/>
              <a:ext cx="74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36960" y="2195640"/>
              <a:ext cx="10177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</a:rPr>
                <a:t>电话线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05080" y="3059280"/>
              <a:ext cx="10177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ahoma"/>
                </a:rPr>
                <a:t>报警系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94160" y="4953240"/>
              <a:ext cx="10177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ahoma"/>
                </a:rPr>
                <a:t>用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" descr=""/>
            <p:cNvPicPr/>
            <p:nvPr/>
          </p:nvPicPr>
          <p:blipFill>
            <a:blip r:embed="rId7"/>
            <a:stretch/>
          </p:blipFill>
          <p:spPr>
            <a:xfrm>
              <a:off x="3135600" y="2116440"/>
              <a:ext cx="93492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577200" y="3306960"/>
              <a:ext cx="1584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丛文联网报警系列软件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75000" y="2265480"/>
              <a:ext cx="784080" cy="5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报警控制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通讯主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1143000" y="2372040"/>
              <a:ext cx="198360" cy="363240"/>
              <a:chOff x="1143000" y="2372040"/>
              <a:chExt cx="198360" cy="363240"/>
            </a:xfrm>
          </p:grpSpPr>
          <p:sp>
            <p:nvSpPr>
              <p:cNvPr id="293" name=""/>
              <p:cNvSpPr/>
              <p:nvPr/>
            </p:nvSpPr>
            <p:spPr>
              <a:xfrm>
                <a:off x="1143000" y="2372040"/>
                <a:ext cx="196560" cy="36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46960" y="2583720"/>
                <a:ext cx="190080" cy="59400"/>
              </a:xfrm>
              <a:custGeom>
                <a:avLst/>
                <a:gdLst/>
                <a:ahLst/>
                <a:rect l="l" t="t" r="r" b="b"/>
                <a:pathLst>
                  <a:path w="273" h="69">
                    <a:moveTo>
                      <a:pt x="0" y="0"/>
                    </a:moveTo>
                    <a:cubicBezTo>
                      <a:pt x="43" y="34"/>
                      <a:pt x="87" y="69"/>
                      <a:pt x="132" y="69"/>
                    </a:cubicBezTo>
                    <a:cubicBezTo>
                      <a:pt x="177" y="69"/>
                      <a:pt x="250" y="14"/>
                      <a:pt x="273" y="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49120" y="2383920"/>
                <a:ext cx="192240" cy="61200"/>
              </a:xfrm>
              <a:custGeom>
                <a:avLst/>
                <a:gdLst/>
                <a:ahLst/>
                <a:rect l="l" t="t" r="r" b="b"/>
                <a:pathLst>
                  <a:path w="273" h="69">
                    <a:moveTo>
                      <a:pt x="0" y="0"/>
                    </a:moveTo>
                    <a:cubicBezTo>
                      <a:pt x="43" y="34"/>
                      <a:pt x="87" y="69"/>
                      <a:pt x="132" y="69"/>
                    </a:cubicBezTo>
                    <a:cubicBezTo>
                      <a:pt x="177" y="69"/>
                      <a:pt x="250" y="14"/>
                      <a:pt x="273" y="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90880" y="2421360"/>
                <a:ext cx="98280" cy="22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1336680" y="251172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联网报警中心系列软件增值产品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—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双向复核接警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8765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警复核一体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价格经济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C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，安装简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+1/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高速、低速、特快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NTACT I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多种报警通讯格式，最多可接入八条电话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警速度快捷，支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SK/DTM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格式来电显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报警信息可设置自动处理、自动打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676520" y="2971800"/>
          <a:ext cx="281916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971800"/>
                    <a:ext cx="281916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95120" y="1292760"/>
            <a:ext cx="2713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66"/>
                </a:solidFill>
                <a:latin typeface="Times New Roman"/>
              </a:rPr>
              <a:t>谢谢</a:t>
            </a:r>
            <a:r>
              <a:rPr b="0" lang="zh-CN" sz="7200" spc="-1" strike="noStrike">
                <a:solidFill>
                  <a:srgbClr val="003366"/>
                </a:solidFill>
                <a:latin typeface="Times New Roman"/>
              </a:rPr>
              <a:t>!!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深圳市丛文科技有限公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型号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警讯中心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机版——警讯中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AC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CW0100/0200/0500/3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满足用户数自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户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户的独立报警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743200" y="3276720"/>
          <a:ext cx="4419720" cy="25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276720"/>
                    <a:ext cx="4419720" cy="25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型号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天网中心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天网终端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级版——天网中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AW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WC0500/3000/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网终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WT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满足用户数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户增至不限户的多级联网报警中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并提供了简单小巧的终端软件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71600" y="3886200"/>
          <a:ext cx="3581280" cy="20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86200"/>
                    <a:ext cx="358128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181480" y="3886200"/>
          <a:ext cx="3505320" cy="20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886200"/>
                    <a:ext cx="350532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型号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超级天网中心系统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网络版——超级天网中心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服务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S9000/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作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NC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满足用户数增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至不限具有服务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作站模式的大型联网报警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48120" y="3886200"/>
          <a:ext cx="358128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886200"/>
                    <a:ext cx="358128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型号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</a:t>
            </a: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天眼中心系统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超大型网络版——天眼中心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A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服务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ES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远程工作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ER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地工作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EL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满足不限用户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并可无限制复制终端软件的超大型城市级联网报警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876920" y="4038480"/>
          <a:ext cx="3429000" cy="19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4038480"/>
                    <a:ext cx="34290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支持市场上几乎所有接收机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丛文接警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CR2000/ACR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EMCO 685/FE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宋体"/>
              </a:rPr>
              <a:t>ADEMCO VTRA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无线系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宋体"/>
              </a:rPr>
              <a:t>DS Safe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宋体"/>
              </a:rPr>
              <a:t>无线系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S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接收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S 6600/6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宋体"/>
              </a:rPr>
              <a:t>C&amp;K MODE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宋体"/>
              </a:rPr>
              <a:t>FBI CP2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宋体"/>
              </a:rPr>
              <a:t>Silent Knight 9000/95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宋体"/>
              </a:rPr>
              <a:t>MCDI-TLR/TLR+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宋体"/>
              </a:rPr>
              <a:t>SMW-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宋体"/>
              </a:rPr>
              <a:t>GE InterLogix oh2000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创艺简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373356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支持前端所有进口品牌主机及大部份国产主流主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讯格式可编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讯格式可编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+2/4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讯格式可编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ODEM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运行在所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系统下，性能可靠、稳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推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in2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专业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联网报警中心系列软件共有的功能特点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大的数据备份、数据维护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4152960" cy="32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深圳市丛文科技有限公司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4:52:21Z</dcterms:created>
  <dc:creator>toshiba</dc:creator>
  <dc:description/>
  <dc:language>en-US</dc:language>
  <cp:lastModifiedBy>wuyan</cp:lastModifiedBy>
  <dcterms:modified xsi:type="dcterms:W3CDTF">2004-10-11T08:50:30Z</dcterms:modified>
  <cp:revision>16</cp:revision>
  <dc:subject/>
  <dc:title> 丛文警卫中心系列软件 结构及功能介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50612694</vt:r8>
  </property>
  <property fmtid="{D5CDD505-2E9C-101B-9397-08002B2CF9AE}" pid="3" name="_AuthorEmailDisplayName">
    <vt:lpwstr>/O=CONWIN/OU=DEV2/CN=RECIPIENTS/CN=CHENWEI</vt:lpwstr>
  </property>
  <property fmtid="{D5CDD505-2E9C-101B-9397-08002B2CF9AE}" pid="4" name="_EmailSubject">
    <vt:lpwstr>警卫中心简介幻灯</vt:lpwstr>
  </property>
</Properties>
</file>