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B4F-30A7-4E56-B894-3637C42A85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结合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需结合软件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F1C-B6FF-4616-94CD-2CB565D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F8F-8144-4ADF-83B3-BA0E4282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017-E4CA-4ED1-85B4-704634F9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5C3-BD48-467D-835A-A1116FC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4C96-6262-4582-9A24-F3815FAB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850F-B1E8-455A-998A-6E3F563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14DA-E1F9-4387-A447-B4ECB395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D2AD-D7F9-420B-9895-3ECCBE4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0BB5-0180-4CCE-B294-4017FD9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95840"/>
            <a:ext cx="7772400" cy="10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D024-916F-42C5-825A-EB5991D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0CF1-4651-4977-A952-E993568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376-8D44-4269-9D3D-F1E129CE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08C9-E250-49E9-BCE2-C590263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D70C-54E6-4A9E-A5DF-70F2321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625B-9A28-4771-85F7-6A61E01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4180-4882-4D83-9A89-BE5007A2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7D6C-C98F-4067-AB75-7EBBA9AE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CEC-B461-483B-950D-0BBFCD0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651-E584-40A2-AB96-469CB23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0E0-40C6-46AC-B089-C1303E0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95840"/>
            <a:ext cx="7772400" cy="10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A7B-89DE-47AA-AD87-9D5967CF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B53-5577-45F3-A2BA-2933F76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3D8-02C2-47BE-8124-57178E2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0FB-A4FF-487E-B029-9EC9E351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DAFD-EDEB-4D59-9445-C2CC2A0A6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669-34CB-4C76-B3F3-8C543AA039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4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丛文联网报警中心系列软件介绍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66720" y="35053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圳市丛文科技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广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丰富的系统设置功能（包括自动处理、自动打印、声音设置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57840" cy="34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级操作员权限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315040" cy="36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警联动地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图可放大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，比例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图格式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图上定位用户，并可改变用户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90920" y="3200400"/>
          <a:ext cx="4572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00400"/>
                    <a:ext cx="4572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显示板显示用户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将相同类别的用户显示在同一表格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显示直观明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76520" y="3048120"/>
          <a:ext cx="609588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609588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电显示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具有来电显示的接收机，可记录其来电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383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761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资料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详尽的用户、防区等资料使管理简单而快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举例：某小区每家用户安装一台小型报警主机（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K2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K23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DEMCO41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58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，通过电话线的方式将警情报至报警管理中心，中心将实时监控用户状态，并以图标方式显示布撤防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505320"/>
          <a:ext cx="688500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68850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警处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手动处理时可选择为预处理，并可在处理栏里填入处理及预处理的相关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510516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尽的报警记录，便于事后跟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2438280"/>
          <a:ext cx="73911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3911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大的查询统计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77208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警联动输出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11480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丛文联网报警中心系列软件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丛文联网报警中心系列软件已应用于全国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家联网报警中心，已成为建立联网报警中心应用软件的首选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方便用户使用，软件提供了多类软件及多种型号以配备不同的项目方案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独立运作的警讯中心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kerSigne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akerSignet BT"/>
              </a:rPr>
              <a:t>具有信息转发功能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网中心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W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工作台的服务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站形式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超级天网中心系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kerSigne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akerSignet BT"/>
              </a:rPr>
              <a:t>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限</a:t>
            </a:r>
            <a:r>
              <a:rPr b="0" lang="zh-CN" sz="2000" spc="-1" strike="noStrike">
                <a:solidFill>
                  <a:srgbClr val="000000"/>
                </a:solidFill>
                <a:latin typeface="BakerSignet BT"/>
              </a:rPr>
              <a:t>终端复制的，适合城市大联网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眼中心系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门配合天网中心使用的天网终端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网报警中心系列软件当前最新版本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类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表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图安装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警代码编辑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密锁升级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种类别型号，多种方案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选增值附件带来更多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丛文短信平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丛文双向语音复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丛文双向复核接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3048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952880" y="3581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4952880" y="4191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警讯中心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独立运作的报警中心的首选之一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联网报警中心系列软件的所有功能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适合于小型区域的报警中心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扩充为联网报警中心的二级终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天网中心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构成多级多中心的必选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2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警讯中心软件的所有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扩充其网络功能，可选择以下方式转发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串口直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短消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需要构成不同结构的多级联网报警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超级天网中心系统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城市级联网报警中心的最佳选择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60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天网中心软件的所有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强的网络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站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默认配置一个服务器带两个工作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无限增加工作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足城市级联网报警中心的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天眼中心系统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大型城市级联网报警中心的最佳选择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01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涵盖了警讯中心、天网中心及超级天网中心系统的所有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地工作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远程工作站工作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终端软件无限制拷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增值产品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短信平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1752480"/>
            <a:ext cx="375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专业设计短信通讯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，天线外置，通讯可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口连接，安装方便，自带驱动程序，支持所有安防系列软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警情自动转发，并可自定义转发的时间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短信模板，可设置群发短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作为短信报警接收机使用，当报警主机是无线报警主机时，可将短信平台作为短信报警接收机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09480" y="1523520"/>
            <a:ext cx="4560480" cy="3789720"/>
            <a:chOff x="609480" y="1523520"/>
            <a:chExt cx="4560480" cy="3789720"/>
          </a:xfrm>
        </p:grpSpPr>
        <p:sp>
          <p:nvSpPr>
            <p:cNvPr id="218" name=""/>
            <p:cNvSpPr/>
            <p:nvPr/>
          </p:nvSpPr>
          <p:spPr>
            <a:xfrm>
              <a:off x="3429000" y="3124080"/>
              <a:ext cx="80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天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805200" y="4038480"/>
              <a:ext cx="1185480" cy="695160"/>
              <a:chOff x="3805200" y="4038480"/>
              <a:chExt cx="1185480" cy="695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05200" y="4331880"/>
                <a:ext cx="761400" cy="391320"/>
              </a:xfrm>
              <a:prstGeom prst="cube">
                <a:avLst>
                  <a:gd name="adj" fmla="val 5621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796640" y="4038480"/>
                <a:ext cx="194040" cy="486000"/>
                <a:chOff x="4796640" y="4038480"/>
                <a:chExt cx="194040" cy="486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796640" y="4412160"/>
                  <a:ext cx="194040" cy="1123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66120" y="4393440"/>
                  <a:ext cx="56520" cy="583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4894920" y="4089960"/>
                  <a:ext cx="0" cy="31608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810680" y="4398480"/>
                  <a:ext cx="70560" cy="39240"/>
                </a:xfrm>
                <a:prstGeom prst="line">
                  <a:avLst/>
                </a:prstGeom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4905720" y="4395960"/>
                  <a:ext cx="81000" cy="54000"/>
                </a:xfrm>
                <a:prstGeom prst="line">
                  <a:avLst/>
                </a:prstGeom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72960" y="4038480"/>
                  <a:ext cx="40680" cy="583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4545000" y="4503960"/>
                <a:ext cx="358560" cy="229680"/>
              </a:xfrm>
              <a:custGeom>
                <a:avLst/>
                <a:gdLst/>
                <a:ahLst/>
                <a:rect l="l" t="t" r="r" b="b"/>
                <a:pathLst>
                  <a:path w="495" h="236">
                    <a:moveTo>
                      <a:pt x="0" y="30"/>
                    </a:moveTo>
                    <a:cubicBezTo>
                      <a:pt x="30" y="40"/>
                      <a:pt x="68" y="38"/>
                      <a:pt x="90" y="60"/>
                    </a:cubicBezTo>
                    <a:cubicBezTo>
                      <a:pt x="146" y="116"/>
                      <a:pt x="115" y="98"/>
                      <a:pt x="180" y="120"/>
                    </a:cubicBezTo>
                    <a:cubicBezTo>
                      <a:pt x="209" y="236"/>
                      <a:pt x="228" y="212"/>
                      <a:pt x="345" y="195"/>
                    </a:cubicBezTo>
                    <a:cubicBezTo>
                      <a:pt x="465" y="155"/>
                      <a:pt x="325" y="215"/>
                      <a:pt x="405" y="135"/>
                    </a:cubicBezTo>
                    <a:cubicBezTo>
                      <a:pt x="416" y="124"/>
                      <a:pt x="435" y="125"/>
                      <a:pt x="450" y="120"/>
                    </a:cubicBezTo>
                    <a:cubicBezTo>
                      <a:pt x="478" y="78"/>
                      <a:pt x="495" y="50"/>
                      <a:pt x="49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657600" y="4800600"/>
              <a:ext cx="914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短信通讯模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480" y="4191120"/>
              <a:ext cx="91440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报警中心接收机或大型报警主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267080" y="3147480"/>
              <a:ext cx="314640" cy="678960"/>
              <a:chOff x="4267080" y="3147480"/>
              <a:chExt cx="314640" cy="678960"/>
            </a:xfrm>
          </p:grpSpPr>
          <p:sp>
            <p:nvSpPr>
              <p:cNvPr id="232" name=""/>
              <p:cNvSpPr/>
              <p:nvPr/>
            </p:nvSpPr>
            <p:spPr>
              <a:xfrm>
                <a:off x="4267080" y="3147480"/>
                <a:ext cx="62280" cy="39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329720" y="3422160"/>
                <a:ext cx="6912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12160" y="3430440"/>
                <a:ext cx="16956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001400" y="2972160"/>
              <a:ext cx="128520" cy="761040"/>
              <a:chOff x="4001400" y="2972160"/>
              <a:chExt cx="128520" cy="76104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4001400" y="2972160"/>
                <a:ext cx="12384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4001760" y="3281760"/>
                <a:ext cx="119160" cy="8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104720" y="3294360"/>
                <a:ext cx="25200" cy="43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819520" y="1523520"/>
              <a:ext cx="1131480" cy="614880"/>
              <a:chOff x="2819520" y="1523520"/>
              <a:chExt cx="1131480" cy="614880"/>
            </a:xfrm>
          </p:grpSpPr>
          <p:sp>
            <p:nvSpPr>
              <p:cNvPr id="240" name=""/>
              <p:cNvSpPr/>
              <p:nvPr/>
            </p:nvSpPr>
            <p:spPr>
              <a:xfrm>
                <a:off x="2819520" y="1586520"/>
                <a:ext cx="924120" cy="551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SMS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无线报警主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748320" y="1523520"/>
                <a:ext cx="202680" cy="311760"/>
                <a:chOff x="3748320" y="1523520"/>
                <a:chExt cx="202680" cy="3117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748320" y="1835280"/>
                  <a:ext cx="148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3900960" y="152352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3844080" y="1543320"/>
                  <a:ext cx="5688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3900960" y="1543320"/>
                  <a:ext cx="50040" cy="5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4687560" y="3390480"/>
              <a:ext cx="302760" cy="534600"/>
              <a:chOff x="4687560" y="3390480"/>
              <a:chExt cx="302760" cy="53460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4687560" y="3624480"/>
                <a:ext cx="75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63520" y="3624840"/>
                <a:ext cx="4968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825080" y="3390480"/>
                <a:ext cx="16524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 flipH="1" rot="742800">
              <a:off x="4876560" y="2057040"/>
              <a:ext cx="199800" cy="892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1" name=""/>
            <p:cNvGraphicFramePr/>
            <p:nvPr/>
          </p:nvGraphicFramePr>
          <p:xfrm>
            <a:off x="1828800" y="3809880"/>
            <a:ext cx="1314360" cy="1503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3809880"/>
                      <a:ext cx="1314360" cy="15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1523880" y="457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71800" y="45720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4267080"/>
              <a:ext cx="4572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串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3880" y="4267080"/>
              <a:ext cx="457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串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3886200" y="19810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联网报警中心系列软件增值产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双向语音复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43000" y="1600200"/>
            <a:ext cx="7535880" cy="3865680"/>
            <a:chOff x="1143000" y="1600200"/>
            <a:chExt cx="7535880" cy="38656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6962760" y="3988080"/>
              <a:ext cx="144000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2427480" y="3889440"/>
              <a:ext cx="12240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4521240" y="3969000"/>
              <a:ext cx="9352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722760" y="4276800"/>
              <a:ext cx="39996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flipV="1">
              <a:off x="6807240" y="2679480"/>
              <a:ext cx="2160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0320" y="503100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电话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1880" y="5085000"/>
              <a:ext cx="1114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双向语音警情自动覆核系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5"/>
            <a:stretch/>
          </p:blipFill>
          <p:spPr>
            <a:xfrm>
              <a:off x="6518520" y="1600200"/>
              <a:ext cx="2160360" cy="18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942160" y="2248200"/>
              <a:ext cx="1150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AVM2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电话语音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19760" y="262260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854520" y="2392560"/>
              <a:ext cx="1963800" cy="841320"/>
              <a:chOff x="3854520" y="2392560"/>
              <a:chExt cx="1963800" cy="8413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4573800" y="2392560"/>
                <a:ext cx="1244520" cy="731520"/>
                <a:chOff x="4573800" y="2392560"/>
                <a:chExt cx="1244520" cy="7315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594320" y="2392560"/>
                  <a:ext cx="1224000" cy="458640"/>
                </a:xfrm>
                <a:prstGeom prst="rect">
                  <a:avLst/>
                </a:prstGeom>
                <a:solidFill>
                  <a:srgbClr val="ffffff"/>
                </a:solidFill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21320" y="2417760"/>
                  <a:ext cx="1168200" cy="407880"/>
                </a:xfrm>
                <a:custGeom>
                  <a:avLst/>
                  <a:gdLst/>
                  <a:ahLst/>
                  <a:rect l="l" t="t" r="r" b="b"/>
                  <a:pathLst>
                    <a:path w="1176" h="325">
                      <a:moveTo>
                        <a:pt x="891" y="224"/>
                      </a:moveTo>
                      <a:lnTo>
                        <a:pt x="893" y="218"/>
                      </a:lnTo>
                      <a:lnTo>
                        <a:pt x="898" y="212"/>
                      </a:lnTo>
                      <a:lnTo>
                        <a:pt x="906" y="210"/>
                      </a:lnTo>
                      <a:lnTo>
                        <a:pt x="914" y="210"/>
                      </a:lnTo>
                      <a:lnTo>
                        <a:pt x="921" y="212"/>
                      </a:lnTo>
                      <a:lnTo>
                        <a:pt x="927" y="218"/>
                      </a:lnTo>
                      <a:lnTo>
                        <a:pt x="928" y="224"/>
                      </a:lnTo>
                      <a:lnTo>
                        <a:pt x="927" y="230"/>
                      </a:lnTo>
                      <a:lnTo>
                        <a:pt x="921" y="234"/>
                      </a:lnTo>
                      <a:lnTo>
                        <a:pt x="914" y="238"/>
                      </a:lnTo>
                      <a:lnTo>
                        <a:pt x="906" y="238"/>
                      </a:lnTo>
                      <a:lnTo>
                        <a:pt x="898" y="234"/>
                      </a:lnTo>
                      <a:lnTo>
                        <a:pt x="893" y="230"/>
                      </a:lnTo>
                      <a:lnTo>
                        <a:pt x="891" y="224"/>
                      </a:lnTo>
                      <a:close/>
                      <a:moveTo>
                        <a:pt x="967" y="224"/>
                      </a:moveTo>
                      <a:lnTo>
                        <a:pt x="968" y="218"/>
                      </a:lnTo>
                      <a:lnTo>
                        <a:pt x="974" y="212"/>
                      </a:lnTo>
                      <a:lnTo>
                        <a:pt x="981" y="210"/>
                      </a:lnTo>
                      <a:lnTo>
                        <a:pt x="989" y="210"/>
                      </a:lnTo>
                      <a:lnTo>
                        <a:pt x="998" y="212"/>
                      </a:lnTo>
                      <a:lnTo>
                        <a:pt x="1002" y="218"/>
                      </a:lnTo>
                      <a:lnTo>
                        <a:pt x="1005" y="224"/>
                      </a:lnTo>
                      <a:lnTo>
                        <a:pt x="1002" y="230"/>
                      </a:lnTo>
                      <a:lnTo>
                        <a:pt x="998" y="234"/>
                      </a:lnTo>
                      <a:lnTo>
                        <a:pt x="989" y="238"/>
                      </a:lnTo>
                      <a:lnTo>
                        <a:pt x="981" y="238"/>
                      </a:lnTo>
                      <a:lnTo>
                        <a:pt x="974" y="234"/>
                      </a:lnTo>
                      <a:lnTo>
                        <a:pt x="968" y="230"/>
                      </a:lnTo>
                      <a:lnTo>
                        <a:pt x="967" y="224"/>
                      </a:lnTo>
                      <a:close/>
                      <a:moveTo>
                        <a:pt x="1042" y="224"/>
                      </a:moveTo>
                      <a:lnTo>
                        <a:pt x="1045" y="218"/>
                      </a:lnTo>
                      <a:lnTo>
                        <a:pt x="1049" y="212"/>
                      </a:lnTo>
                      <a:lnTo>
                        <a:pt x="1058" y="210"/>
                      </a:lnTo>
                      <a:lnTo>
                        <a:pt x="1066" y="210"/>
                      </a:lnTo>
                      <a:lnTo>
                        <a:pt x="1073" y="212"/>
                      </a:lnTo>
                      <a:lnTo>
                        <a:pt x="1079" y="218"/>
                      </a:lnTo>
                      <a:lnTo>
                        <a:pt x="1080" y="224"/>
                      </a:lnTo>
                      <a:lnTo>
                        <a:pt x="1079" y="230"/>
                      </a:lnTo>
                      <a:lnTo>
                        <a:pt x="1073" y="234"/>
                      </a:lnTo>
                      <a:lnTo>
                        <a:pt x="1066" y="238"/>
                      </a:lnTo>
                      <a:lnTo>
                        <a:pt x="1058" y="238"/>
                      </a:lnTo>
                      <a:lnTo>
                        <a:pt x="1049" y="234"/>
                      </a:lnTo>
                      <a:lnTo>
                        <a:pt x="1045" y="230"/>
                      </a:lnTo>
                      <a:lnTo>
                        <a:pt x="1042" y="224"/>
                      </a:lnTo>
                      <a:close/>
                      <a:moveTo>
                        <a:pt x="815" y="280"/>
                      </a:moveTo>
                      <a:lnTo>
                        <a:pt x="817" y="274"/>
                      </a:lnTo>
                      <a:lnTo>
                        <a:pt x="822" y="270"/>
                      </a:lnTo>
                      <a:lnTo>
                        <a:pt x="829" y="266"/>
                      </a:lnTo>
                      <a:lnTo>
                        <a:pt x="838" y="266"/>
                      </a:lnTo>
                      <a:lnTo>
                        <a:pt x="846" y="270"/>
                      </a:lnTo>
                      <a:lnTo>
                        <a:pt x="851" y="274"/>
                      </a:lnTo>
                      <a:lnTo>
                        <a:pt x="853" y="280"/>
                      </a:lnTo>
                      <a:lnTo>
                        <a:pt x="851" y="286"/>
                      </a:lnTo>
                      <a:lnTo>
                        <a:pt x="846" y="292"/>
                      </a:lnTo>
                      <a:lnTo>
                        <a:pt x="838" y="294"/>
                      </a:lnTo>
                      <a:lnTo>
                        <a:pt x="829" y="294"/>
                      </a:lnTo>
                      <a:lnTo>
                        <a:pt x="822" y="292"/>
                      </a:lnTo>
                      <a:lnTo>
                        <a:pt x="817" y="286"/>
                      </a:lnTo>
                      <a:lnTo>
                        <a:pt x="815" y="280"/>
                      </a:lnTo>
                      <a:close/>
                      <a:moveTo>
                        <a:pt x="891" y="280"/>
                      </a:moveTo>
                      <a:lnTo>
                        <a:pt x="893" y="274"/>
                      </a:lnTo>
                      <a:lnTo>
                        <a:pt x="898" y="270"/>
                      </a:lnTo>
                      <a:lnTo>
                        <a:pt x="906" y="266"/>
                      </a:lnTo>
                      <a:lnTo>
                        <a:pt x="914" y="266"/>
                      </a:lnTo>
                      <a:lnTo>
                        <a:pt x="921" y="270"/>
                      </a:lnTo>
                      <a:lnTo>
                        <a:pt x="927" y="274"/>
                      </a:lnTo>
                      <a:lnTo>
                        <a:pt x="928" y="280"/>
                      </a:lnTo>
                      <a:lnTo>
                        <a:pt x="927" y="286"/>
                      </a:lnTo>
                      <a:lnTo>
                        <a:pt x="921" y="292"/>
                      </a:lnTo>
                      <a:lnTo>
                        <a:pt x="914" y="294"/>
                      </a:lnTo>
                      <a:lnTo>
                        <a:pt x="906" y="294"/>
                      </a:lnTo>
                      <a:lnTo>
                        <a:pt x="898" y="292"/>
                      </a:lnTo>
                      <a:lnTo>
                        <a:pt x="893" y="286"/>
                      </a:lnTo>
                      <a:lnTo>
                        <a:pt x="891" y="280"/>
                      </a:lnTo>
                      <a:close/>
                      <a:moveTo>
                        <a:pt x="967" y="280"/>
                      </a:moveTo>
                      <a:lnTo>
                        <a:pt x="968" y="274"/>
                      </a:lnTo>
                      <a:lnTo>
                        <a:pt x="974" y="270"/>
                      </a:lnTo>
                      <a:lnTo>
                        <a:pt x="981" y="266"/>
                      </a:lnTo>
                      <a:lnTo>
                        <a:pt x="989" y="266"/>
                      </a:lnTo>
                      <a:lnTo>
                        <a:pt x="998" y="270"/>
                      </a:lnTo>
                      <a:lnTo>
                        <a:pt x="1002" y="274"/>
                      </a:lnTo>
                      <a:lnTo>
                        <a:pt x="1005" y="280"/>
                      </a:lnTo>
                      <a:lnTo>
                        <a:pt x="1002" y="286"/>
                      </a:lnTo>
                      <a:lnTo>
                        <a:pt x="998" y="292"/>
                      </a:lnTo>
                      <a:lnTo>
                        <a:pt x="989" y="294"/>
                      </a:lnTo>
                      <a:lnTo>
                        <a:pt x="981" y="294"/>
                      </a:lnTo>
                      <a:lnTo>
                        <a:pt x="974" y="292"/>
                      </a:lnTo>
                      <a:lnTo>
                        <a:pt x="968" y="286"/>
                      </a:lnTo>
                      <a:lnTo>
                        <a:pt x="967" y="280"/>
                      </a:lnTo>
                      <a:close/>
                      <a:moveTo>
                        <a:pt x="1042" y="280"/>
                      </a:moveTo>
                      <a:lnTo>
                        <a:pt x="1045" y="274"/>
                      </a:lnTo>
                      <a:lnTo>
                        <a:pt x="1049" y="270"/>
                      </a:lnTo>
                      <a:lnTo>
                        <a:pt x="1058" y="266"/>
                      </a:lnTo>
                      <a:lnTo>
                        <a:pt x="1066" y="266"/>
                      </a:lnTo>
                      <a:lnTo>
                        <a:pt x="1073" y="270"/>
                      </a:lnTo>
                      <a:lnTo>
                        <a:pt x="1079" y="274"/>
                      </a:lnTo>
                      <a:lnTo>
                        <a:pt x="1080" y="280"/>
                      </a:lnTo>
                      <a:lnTo>
                        <a:pt x="1079" y="286"/>
                      </a:lnTo>
                      <a:lnTo>
                        <a:pt x="1073" y="292"/>
                      </a:lnTo>
                      <a:lnTo>
                        <a:pt x="1066" y="294"/>
                      </a:lnTo>
                      <a:lnTo>
                        <a:pt x="1058" y="294"/>
                      </a:lnTo>
                      <a:lnTo>
                        <a:pt x="1049" y="292"/>
                      </a:lnTo>
                      <a:lnTo>
                        <a:pt x="1045" y="286"/>
                      </a:lnTo>
                      <a:lnTo>
                        <a:pt x="1042" y="280"/>
                      </a:lnTo>
                      <a:close/>
                      <a:moveTo>
                        <a:pt x="815" y="166"/>
                      </a:moveTo>
                      <a:lnTo>
                        <a:pt x="817" y="160"/>
                      </a:lnTo>
                      <a:lnTo>
                        <a:pt x="822" y="156"/>
                      </a:lnTo>
                      <a:lnTo>
                        <a:pt x="829" y="153"/>
                      </a:lnTo>
                      <a:lnTo>
                        <a:pt x="838" y="153"/>
                      </a:lnTo>
                      <a:lnTo>
                        <a:pt x="846" y="156"/>
                      </a:lnTo>
                      <a:lnTo>
                        <a:pt x="851" y="160"/>
                      </a:lnTo>
                      <a:lnTo>
                        <a:pt x="853" y="166"/>
                      </a:lnTo>
                      <a:lnTo>
                        <a:pt x="851" y="173"/>
                      </a:lnTo>
                      <a:lnTo>
                        <a:pt x="846" y="178"/>
                      </a:lnTo>
                      <a:lnTo>
                        <a:pt x="838" y="180"/>
                      </a:lnTo>
                      <a:lnTo>
                        <a:pt x="829" y="180"/>
                      </a:lnTo>
                      <a:lnTo>
                        <a:pt x="822" y="178"/>
                      </a:lnTo>
                      <a:lnTo>
                        <a:pt x="817" y="173"/>
                      </a:lnTo>
                      <a:lnTo>
                        <a:pt x="815" y="166"/>
                      </a:lnTo>
                      <a:close/>
                      <a:moveTo>
                        <a:pt x="891" y="166"/>
                      </a:moveTo>
                      <a:lnTo>
                        <a:pt x="893" y="160"/>
                      </a:lnTo>
                      <a:lnTo>
                        <a:pt x="898" y="156"/>
                      </a:lnTo>
                      <a:lnTo>
                        <a:pt x="906" y="153"/>
                      </a:lnTo>
                      <a:lnTo>
                        <a:pt x="914" y="153"/>
                      </a:lnTo>
                      <a:lnTo>
                        <a:pt x="921" y="156"/>
                      </a:lnTo>
                      <a:lnTo>
                        <a:pt x="927" y="160"/>
                      </a:lnTo>
                      <a:lnTo>
                        <a:pt x="928" y="166"/>
                      </a:lnTo>
                      <a:lnTo>
                        <a:pt x="927" y="173"/>
                      </a:lnTo>
                      <a:lnTo>
                        <a:pt x="921" y="178"/>
                      </a:lnTo>
                      <a:lnTo>
                        <a:pt x="914" y="180"/>
                      </a:lnTo>
                      <a:lnTo>
                        <a:pt x="906" y="180"/>
                      </a:lnTo>
                      <a:lnTo>
                        <a:pt x="898" y="178"/>
                      </a:lnTo>
                      <a:lnTo>
                        <a:pt x="893" y="173"/>
                      </a:lnTo>
                      <a:lnTo>
                        <a:pt x="891" y="166"/>
                      </a:lnTo>
                      <a:close/>
                      <a:moveTo>
                        <a:pt x="967" y="166"/>
                      </a:moveTo>
                      <a:lnTo>
                        <a:pt x="968" y="160"/>
                      </a:lnTo>
                      <a:lnTo>
                        <a:pt x="974" y="156"/>
                      </a:lnTo>
                      <a:lnTo>
                        <a:pt x="981" y="153"/>
                      </a:lnTo>
                      <a:lnTo>
                        <a:pt x="989" y="153"/>
                      </a:lnTo>
                      <a:lnTo>
                        <a:pt x="998" y="156"/>
                      </a:lnTo>
                      <a:lnTo>
                        <a:pt x="1002" y="160"/>
                      </a:lnTo>
                      <a:lnTo>
                        <a:pt x="1005" y="166"/>
                      </a:lnTo>
                      <a:lnTo>
                        <a:pt x="1002" y="173"/>
                      </a:lnTo>
                      <a:lnTo>
                        <a:pt x="998" y="178"/>
                      </a:lnTo>
                      <a:lnTo>
                        <a:pt x="989" y="180"/>
                      </a:lnTo>
                      <a:lnTo>
                        <a:pt x="981" y="180"/>
                      </a:lnTo>
                      <a:lnTo>
                        <a:pt x="974" y="178"/>
                      </a:lnTo>
                      <a:lnTo>
                        <a:pt x="968" y="173"/>
                      </a:lnTo>
                      <a:lnTo>
                        <a:pt x="967" y="166"/>
                      </a:lnTo>
                      <a:close/>
                      <a:moveTo>
                        <a:pt x="1042" y="166"/>
                      </a:moveTo>
                      <a:lnTo>
                        <a:pt x="1045" y="160"/>
                      </a:lnTo>
                      <a:lnTo>
                        <a:pt x="1049" y="156"/>
                      </a:lnTo>
                      <a:lnTo>
                        <a:pt x="1058" y="153"/>
                      </a:lnTo>
                      <a:lnTo>
                        <a:pt x="1066" y="153"/>
                      </a:lnTo>
                      <a:lnTo>
                        <a:pt x="1073" y="156"/>
                      </a:lnTo>
                      <a:lnTo>
                        <a:pt x="1079" y="160"/>
                      </a:lnTo>
                      <a:lnTo>
                        <a:pt x="1080" y="166"/>
                      </a:lnTo>
                      <a:lnTo>
                        <a:pt x="1079" y="173"/>
                      </a:lnTo>
                      <a:lnTo>
                        <a:pt x="1073" y="178"/>
                      </a:lnTo>
                      <a:lnTo>
                        <a:pt x="1066" y="180"/>
                      </a:lnTo>
                      <a:lnTo>
                        <a:pt x="1058" y="180"/>
                      </a:lnTo>
                      <a:lnTo>
                        <a:pt x="1049" y="178"/>
                      </a:lnTo>
                      <a:lnTo>
                        <a:pt x="1045" y="173"/>
                      </a:lnTo>
                      <a:lnTo>
                        <a:pt x="1042" y="166"/>
                      </a:lnTo>
                      <a:close/>
                      <a:moveTo>
                        <a:pt x="815" y="110"/>
                      </a:moveTo>
                      <a:lnTo>
                        <a:pt x="817" y="104"/>
                      </a:lnTo>
                      <a:lnTo>
                        <a:pt x="822" y="99"/>
                      </a:lnTo>
                      <a:lnTo>
                        <a:pt x="829" y="96"/>
                      </a:lnTo>
                      <a:lnTo>
                        <a:pt x="838" y="96"/>
                      </a:lnTo>
                      <a:lnTo>
                        <a:pt x="846" y="99"/>
                      </a:lnTo>
                      <a:lnTo>
                        <a:pt x="851" y="104"/>
                      </a:lnTo>
                      <a:lnTo>
                        <a:pt x="853" y="110"/>
                      </a:lnTo>
                      <a:lnTo>
                        <a:pt x="851" y="116"/>
                      </a:lnTo>
                      <a:lnTo>
                        <a:pt x="846" y="120"/>
                      </a:lnTo>
                      <a:lnTo>
                        <a:pt x="838" y="124"/>
                      </a:lnTo>
                      <a:lnTo>
                        <a:pt x="829" y="124"/>
                      </a:lnTo>
                      <a:lnTo>
                        <a:pt x="822" y="120"/>
                      </a:lnTo>
                      <a:lnTo>
                        <a:pt x="817" y="116"/>
                      </a:lnTo>
                      <a:lnTo>
                        <a:pt x="815" y="110"/>
                      </a:lnTo>
                      <a:close/>
                      <a:moveTo>
                        <a:pt x="891" y="110"/>
                      </a:moveTo>
                      <a:lnTo>
                        <a:pt x="893" y="104"/>
                      </a:lnTo>
                      <a:lnTo>
                        <a:pt x="898" y="99"/>
                      </a:lnTo>
                      <a:lnTo>
                        <a:pt x="906" y="96"/>
                      </a:lnTo>
                      <a:lnTo>
                        <a:pt x="914" y="96"/>
                      </a:lnTo>
                      <a:lnTo>
                        <a:pt x="921" y="99"/>
                      </a:lnTo>
                      <a:lnTo>
                        <a:pt x="927" y="104"/>
                      </a:lnTo>
                      <a:lnTo>
                        <a:pt x="928" y="110"/>
                      </a:lnTo>
                      <a:lnTo>
                        <a:pt x="927" y="116"/>
                      </a:lnTo>
                      <a:lnTo>
                        <a:pt x="921" y="120"/>
                      </a:lnTo>
                      <a:lnTo>
                        <a:pt x="914" y="124"/>
                      </a:lnTo>
                      <a:lnTo>
                        <a:pt x="906" y="124"/>
                      </a:lnTo>
                      <a:lnTo>
                        <a:pt x="898" y="120"/>
                      </a:lnTo>
                      <a:lnTo>
                        <a:pt x="893" y="116"/>
                      </a:lnTo>
                      <a:lnTo>
                        <a:pt x="891" y="110"/>
                      </a:lnTo>
                      <a:close/>
                      <a:moveTo>
                        <a:pt x="967" y="110"/>
                      </a:moveTo>
                      <a:lnTo>
                        <a:pt x="968" y="104"/>
                      </a:lnTo>
                      <a:lnTo>
                        <a:pt x="974" y="99"/>
                      </a:lnTo>
                      <a:lnTo>
                        <a:pt x="981" y="96"/>
                      </a:lnTo>
                      <a:lnTo>
                        <a:pt x="989" y="96"/>
                      </a:lnTo>
                      <a:lnTo>
                        <a:pt x="998" y="99"/>
                      </a:lnTo>
                      <a:lnTo>
                        <a:pt x="1002" y="104"/>
                      </a:lnTo>
                      <a:lnTo>
                        <a:pt x="1005" y="110"/>
                      </a:lnTo>
                      <a:lnTo>
                        <a:pt x="1002" y="116"/>
                      </a:lnTo>
                      <a:lnTo>
                        <a:pt x="998" y="120"/>
                      </a:lnTo>
                      <a:lnTo>
                        <a:pt x="989" y="124"/>
                      </a:lnTo>
                      <a:lnTo>
                        <a:pt x="981" y="124"/>
                      </a:lnTo>
                      <a:lnTo>
                        <a:pt x="974" y="120"/>
                      </a:lnTo>
                      <a:lnTo>
                        <a:pt x="968" y="116"/>
                      </a:lnTo>
                      <a:lnTo>
                        <a:pt x="967" y="110"/>
                      </a:lnTo>
                      <a:close/>
                      <a:moveTo>
                        <a:pt x="1042" y="110"/>
                      </a:moveTo>
                      <a:lnTo>
                        <a:pt x="1045" y="104"/>
                      </a:lnTo>
                      <a:lnTo>
                        <a:pt x="1049" y="99"/>
                      </a:lnTo>
                      <a:lnTo>
                        <a:pt x="1058" y="96"/>
                      </a:lnTo>
                      <a:lnTo>
                        <a:pt x="1066" y="96"/>
                      </a:lnTo>
                      <a:lnTo>
                        <a:pt x="1073" y="99"/>
                      </a:lnTo>
                      <a:lnTo>
                        <a:pt x="1079" y="104"/>
                      </a:lnTo>
                      <a:lnTo>
                        <a:pt x="1080" y="110"/>
                      </a:lnTo>
                      <a:lnTo>
                        <a:pt x="1079" y="116"/>
                      </a:lnTo>
                      <a:lnTo>
                        <a:pt x="1073" y="120"/>
                      </a:lnTo>
                      <a:lnTo>
                        <a:pt x="1066" y="124"/>
                      </a:lnTo>
                      <a:lnTo>
                        <a:pt x="1058" y="124"/>
                      </a:lnTo>
                      <a:lnTo>
                        <a:pt x="1049" y="120"/>
                      </a:lnTo>
                      <a:lnTo>
                        <a:pt x="1045" y="116"/>
                      </a:lnTo>
                      <a:lnTo>
                        <a:pt x="1042" y="110"/>
                      </a:lnTo>
                      <a:close/>
                      <a:moveTo>
                        <a:pt x="815" y="53"/>
                      </a:moveTo>
                      <a:lnTo>
                        <a:pt x="817" y="46"/>
                      </a:lnTo>
                      <a:lnTo>
                        <a:pt x="822" y="41"/>
                      </a:lnTo>
                      <a:lnTo>
                        <a:pt x="829" y="39"/>
                      </a:lnTo>
                      <a:lnTo>
                        <a:pt x="838" y="39"/>
                      </a:lnTo>
                      <a:lnTo>
                        <a:pt x="846" y="41"/>
                      </a:lnTo>
                      <a:lnTo>
                        <a:pt x="851" y="46"/>
                      </a:lnTo>
                      <a:lnTo>
                        <a:pt x="853" y="53"/>
                      </a:lnTo>
                      <a:lnTo>
                        <a:pt x="851" y="59"/>
                      </a:lnTo>
                      <a:lnTo>
                        <a:pt x="846" y="64"/>
                      </a:lnTo>
                      <a:lnTo>
                        <a:pt x="838" y="66"/>
                      </a:lnTo>
                      <a:lnTo>
                        <a:pt x="829" y="66"/>
                      </a:lnTo>
                      <a:lnTo>
                        <a:pt x="822" y="64"/>
                      </a:lnTo>
                      <a:lnTo>
                        <a:pt x="817" y="59"/>
                      </a:lnTo>
                      <a:lnTo>
                        <a:pt x="815" y="53"/>
                      </a:lnTo>
                      <a:close/>
                      <a:moveTo>
                        <a:pt x="891" y="53"/>
                      </a:moveTo>
                      <a:lnTo>
                        <a:pt x="893" y="46"/>
                      </a:lnTo>
                      <a:lnTo>
                        <a:pt x="898" y="41"/>
                      </a:lnTo>
                      <a:lnTo>
                        <a:pt x="906" y="39"/>
                      </a:lnTo>
                      <a:lnTo>
                        <a:pt x="914" y="39"/>
                      </a:lnTo>
                      <a:lnTo>
                        <a:pt x="921" y="41"/>
                      </a:lnTo>
                      <a:lnTo>
                        <a:pt x="927" y="46"/>
                      </a:lnTo>
                      <a:lnTo>
                        <a:pt x="928" y="53"/>
                      </a:lnTo>
                      <a:lnTo>
                        <a:pt x="927" y="59"/>
                      </a:lnTo>
                      <a:lnTo>
                        <a:pt x="921" y="64"/>
                      </a:lnTo>
                      <a:lnTo>
                        <a:pt x="914" y="66"/>
                      </a:lnTo>
                      <a:lnTo>
                        <a:pt x="906" y="66"/>
                      </a:lnTo>
                      <a:lnTo>
                        <a:pt x="898" y="64"/>
                      </a:lnTo>
                      <a:lnTo>
                        <a:pt x="893" y="59"/>
                      </a:lnTo>
                      <a:lnTo>
                        <a:pt x="891" y="53"/>
                      </a:lnTo>
                      <a:close/>
                      <a:moveTo>
                        <a:pt x="967" y="53"/>
                      </a:moveTo>
                      <a:lnTo>
                        <a:pt x="968" y="46"/>
                      </a:lnTo>
                      <a:lnTo>
                        <a:pt x="974" y="41"/>
                      </a:lnTo>
                      <a:lnTo>
                        <a:pt x="981" y="39"/>
                      </a:lnTo>
                      <a:lnTo>
                        <a:pt x="989" y="39"/>
                      </a:lnTo>
                      <a:lnTo>
                        <a:pt x="998" y="41"/>
                      </a:lnTo>
                      <a:lnTo>
                        <a:pt x="1002" y="46"/>
                      </a:lnTo>
                      <a:lnTo>
                        <a:pt x="1005" y="53"/>
                      </a:lnTo>
                      <a:lnTo>
                        <a:pt x="1002" y="59"/>
                      </a:lnTo>
                      <a:lnTo>
                        <a:pt x="998" y="64"/>
                      </a:lnTo>
                      <a:lnTo>
                        <a:pt x="989" y="66"/>
                      </a:lnTo>
                      <a:lnTo>
                        <a:pt x="981" y="66"/>
                      </a:lnTo>
                      <a:lnTo>
                        <a:pt x="974" y="64"/>
                      </a:lnTo>
                      <a:lnTo>
                        <a:pt x="968" y="59"/>
                      </a:lnTo>
                      <a:lnTo>
                        <a:pt x="967" y="53"/>
                      </a:lnTo>
                      <a:close/>
                      <a:moveTo>
                        <a:pt x="1042" y="53"/>
                      </a:moveTo>
                      <a:lnTo>
                        <a:pt x="1045" y="46"/>
                      </a:lnTo>
                      <a:lnTo>
                        <a:pt x="1049" y="41"/>
                      </a:lnTo>
                      <a:lnTo>
                        <a:pt x="1058" y="39"/>
                      </a:lnTo>
                      <a:lnTo>
                        <a:pt x="1066" y="39"/>
                      </a:lnTo>
                      <a:lnTo>
                        <a:pt x="1073" y="41"/>
                      </a:lnTo>
                      <a:lnTo>
                        <a:pt x="1079" y="46"/>
                      </a:lnTo>
                      <a:lnTo>
                        <a:pt x="1080" y="53"/>
                      </a:lnTo>
                      <a:lnTo>
                        <a:pt x="1079" y="59"/>
                      </a:lnTo>
                      <a:lnTo>
                        <a:pt x="1073" y="64"/>
                      </a:lnTo>
                      <a:lnTo>
                        <a:pt x="1066" y="66"/>
                      </a:lnTo>
                      <a:lnTo>
                        <a:pt x="1058" y="66"/>
                      </a:lnTo>
                      <a:lnTo>
                        <a:pt x="1049" y="64"/>
                      </a:lnTo>
                      <a:lnTo>
                        <a:pt x="1045" y="59"/>
                      </a:lnTo>
                      <a:lnTo>
                        <a:pt x="1042" y="53"/>
                      </a:lnTo>
                      <a:close/>
                      <a:moveTo>
                        <a:pt x="815" y="224"/>
                      </a:moveTo>
                      <a:lnTo>
                        <a:pt x="817" y="218"/>
                      </a:lnTo>
                      <a:lnTo>
                        <a:pt x="822" y="212"/>
                      </a:lnTo>
                      <a:lnTo>
                        <a:pt x="829" y="210"/>
                      </a:lnTo>
                      <a:lnTo>
                        <a:pt x="838" y="210"/>
                      </a:lnTo>
                      <a:lnTo>
                        <a:pt x="846" y="212"/>
                      </a:lnTo>
                      <a:lnTo>
                        <a:pt x="851" y="218"/>
                      </a:lnTo>
                      <a:lnTo>
                        <a:pt x="853" y="224"/>
                      </a:lnTo>
                      <a:lnTo>
                        <a:pt x="851" y="230"/>
                      </a:lnTo>
                      <a:lnTo>
                        <a:pt x="846" y="234"/>
                      </a:lnTo>
                      <a:lnTo>
                        <a:pt x="838" y="238"/>
                      </a:lnTo>
                      <a:lnTo>
                        <a:pt x="829" y="238"/>
                      </a:lnTo>
                      <a:lnTo>
                        <a:pt x="822" y="234"/>
                      </a:lnTo>
                      <a:lnTo>
                        <a:pt x="817" y="230"/>
                      </a:lnTo>
                      <a:lnTo>
                        <a:pt x="815" y="224"/>
                      </a:lnTo>
                      <a:close/>
                      <a:moveTo>
                        <a:pt x="0" y="70"/>
                      </a:moveTo>
                      <a:lnTo>
                        <a:pt x="63" y="70"/>
                      </a:lnTo>
                      <a:lnTo>
                        <a:pt x="63" y="23"/>
                      </a:lnTo>
                      <a:lnTo>
                        <a:pt x="0" y="23"/>
                      </a:lnTo>
                      <a:lnTo>
                        <a:pt x="0" y="70"/>
                      </a:lnTo>
                      <a:close/>
                      <a:moveTo>
                        <a:pt x="93" y="23"/>
                      </a:moveTo>
                      <a:lnTo>
                        <a:pt x="712" y="23"/>
                      </a:lnTo>
                      <a:lnTo>
                        <a:pt x="712" y="70"/>
                      </a:lnTo>
                      <a:lnTo>
                        <a:pt x="93" y="70"/>
                      </a:lnTo>
                      <a:lnTo>
                        <a:pt x="93" y="23"/>
                      </a:lnTo>
                      <a:close/>
                      <a:moveTo>
                        <a:pt x="0" y="325"/>
                      </a:moveTo>
                      <a:lnTo>
                        <a:pt x="124" y="325"/>
                      </a:lnTo>
                      <a:lnTo>
                        <a:pt x="124" y="301"/>
                      </a:lnTo>
                      <a:lnTo>
                        <a:pt x="0" y="301"/>
                      </a:lnTo>
                      <a:lnTo>
                        <a:pt x="0" y="325"/>
                      </a:lnTo>
                      <a:close/>
                      <a:moveTo>
                        <a:pt x="778" y="325"/>
                      </a:moveTo>
                      <a:lnTo>
                        <a:pt x="1176" y="325"/>
                      </a:lnTo>
                      <a:lnTo>
                        <a:pt x="1176" y="0"/>
                      </a:lnTo>
                      <a:lnTo>
                        <a:pt x="778" y="0"/>
                      </a:lnTo>
                      <a:lnTo>
                        <a:pt x="778" y="3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573800" y="2908440"/>
                  <a:ext cx="121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报警接收机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4086360" y="25718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86360" y="268452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86360" y="27990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86360" y="245772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54520" y="2752920"/>
                <a:ext cx="81900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电话线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 rot="10800000">
              <a:off x="6342120" y="2678760"/>
              <a:ext cx="465120" cy="157320"/>
            </a:xfrm>
            <a:custGeom>
              <a:avLst/>
              <a:gdLst/>
              <a:ahLst/>
              <a:rect l="l" t="t" r="r" b="b"/>
              <a:pathLst>
                <a:path w="808" h="266">
                  <a:moveTo>
                    <a:pt x="0" y="0"/>
                  </a:moveTo>
                  <a:lnTo>
                    <a:pt x="0" y="227"/>
                  </a:lnTo>
                  <a:lnTo>
                    <a:pt x="311" y="227"/>
                  </a:lnTo>
                  <a:lnTo>
                    <a:pt x="310" y="266"/>
                  </a:lnTo>
                  <a:lnTo>
                    <a:pt x="808" y="266"/>
                  </a:lnTo>
                  <a:lnTo>
                    <a:pt x="8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6531120" y="4276800"/>
              <a:ext cx="399960" cy="406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2" name=""/>
            <p:cNvCxnSpPr>
              <a:stCxn id="262" idx="3"/>
              <a:endCxn id="280" idx="0"/>
            </p:cNvCxnSpPr>
            <p:nvPr/>
          </p:nvCxnSpPr>
          <p:spPr>
            <a:xfrm flipV="1">
              <a:off x="5456160" y="2836800"/>
              <a:ext cx="888120" cy="1637280"/>
            </a:xfrm>
            <a:prstGeom prst="bentConnector3">
              <a:avLst>
                <a:gd name="adj1" fmla="val 498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81" idx="1"/>
              <a:endCxn id="262" idx="3"/>
            </p:cNvCxnSpPr>
            <p:nvPr/>
          </p:nvCxnSpPr>
          <p:spPr>
            <a:xfrm flipH="1" flipV="1">
              <a:off x="5455800" y="4473360"/>
              <a:ext cx="10753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62" idx="1"/>
              <a:endCxn id="263" idx="3"/>
            </p:cNvCxnSpPr>
            <p:nvPr/>
          </p:nvCxnSpPr>
          <p:spPr>
            <a:xfrm flipH="1">
              <a:off x="4122000" y="4473720"/>
              <a:ext cx="39924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5" name=""/>
            <p:cNvSpPr/>
            <p:nvPr/>
          </p:nvSpPr>
          <p:spPr>
            <a:xfrm>
              <a:off x="2376720" y="255132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36960" y="219564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电话线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5080" y="305928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ahoma"/>
                </a:rPr>
                <a:t>报警系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94160" y="495324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ahoma"/>
                </a:rPr>
                <a:t>用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7"/>
            <a:stretch/>
          </p:blipFill>
          <p:spPr>
            <a:xfrm>
              <a:off x="3135600" y="2116440"/>
              <a:ext cx="9349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577200" y="3306960"/>
              <a:ext cx="1584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丛文联网报警系列软件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75000" y="2265480"/>
              <a:ext cx="78408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报警控制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通讯主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143000" y="2372040"/>
              <a:ext cx="198360" cy="363240"/>
              <a:chOff x="1143000" y="2372040"/>
              <a:chExt cx="198360" cy="363240"/>
            </a:xfrm>
          </p:grpSpPr>
          <p:sp>
            <p:nvSpPr>
              <p:cNvPr id="293" name=""/>
              <p:cNvSpPr/>
              <p:nvPr/>
            </p:nvSpPr>
            <p:spPr>
              <a:xfrm>
                <a:off x="1143000" y="2372040"/>
                <a:ext cx="19656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6960" y="2583720"/>
                <a:ext cx="190080" cy="59400"/>
              </a:xfrm>
              <a:custGeom>
                <a:avLst/>
                <a:gdLst/>
                <a:ahLst/>
                <a:rect l="l" t="t" r="r" b="b"/>
                <a:pathLst>
                  <a:path w="273" h="69">
                    <a:moveTo>
                      <a:pt x="0" y="0"/>
                    </a:moveTo>
                    <a:cubicBezTo>
                      <a:pt x="43" y="34"/>
                      <a:pt x="87" y="69"/>
                      <a:pt x="132" y="69"/>
                    </a:cubicBezTo>
                    <a:cubicBezTo>
                      <a:pt x="177" y="69"/>
                      <a:pt x="250" y="14"/>
                      <a:pt x="273" y="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9120" y="2383920"/>
                <a:ext cx="192240" cy="61200"/>
              </a:xfrm>
              <a:custGeom>
                <a:avLst/>
                <a:gdLst/>
                <a:ahLst/>
                <a:rect l="l" t="t" r="r" b="b"/>
                <a:pathLst>
                  <a:path w="273" h="69">
                    <a:moveTo>
                      <a:pt x="0" y="0"/>
                    </a:moveTo>
                    <a:cubicBezTo>
                      <a:pt x="43" y="34"/>
                      <a:pt x="87" y="69"/>
                      <a:pt x="132" y="69"/>
                    </a:cubicBezTo>
                    <a:cubicBezTo>
                      <a:pt x="177" y="69"/>
                      <a:pt x="250" y="14"/>
                      <a:pt x="273" y="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90880" y="2421360"/>
                <a:ext cx="9828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336680" y="25117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联网报警中心系列软件增值产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双向复核接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警复核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价格经济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，安装简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+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速、低速、特快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TACT 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多种报警通讯格式，最多可接入八条电话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警速度快捷，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SK/DTM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来电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警信息可设置自动处理、自动打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76520" y="2971800"/>
          <a:ext cx="281916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281916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120" y="1292760"/>
            <a:ext cx="2713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谢谢</a:t>
            </a: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!!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深圳市丛文科技有限公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警讯中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机版——警讯中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AC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W0100/0200/0500/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足用户数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户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户的独立报警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743200" y="3276720"/>
          <a:ext cx="4419720" cy="25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76720"/>
                    <a:ext cx="441972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天网中心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天网终端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级版——天网中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W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WC0500/3000/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网终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WT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用户数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户增至不限户的多级联网报警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提供了简单小巧的终端软件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1600" y="3886200"/>
          <a:ext cx="358128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86200"/>
                    <a:ext cx="35812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886200"/>
          <a:ext cx="350532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886200"/>
                    <a:ext cx="35053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超级天网中心系统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络版——超级天网中心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S9000/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C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用户数增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不限具有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站模式的大型联网报警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3886200"/>
          <a:ext cx="358128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886200"/>
                    <a:ext cx="358128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天眼中心系统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超大型网络版——天眼中心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ES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远程工作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ER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地工作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EL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不限用户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可无限制复制终端软件的超大型城市级联网报警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876920" y="4038480"/>
          <a:ext cx="34290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038480"/>
                    <a:ext cx="34290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支持市场上几乎所有接收机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丛文接警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R2000/ACR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EMCO 685/FE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ADEMCO VTR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线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DS Safe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无线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接收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S 6600/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C&amp;K MOD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FBI CP2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Silent Knight 9000/9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MCDI-TLR/TLR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SMW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GE InterLogix oh2000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73356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支持前端所有进口品牌主机及大部份国产主流主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讯格式可编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讯格式可编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+2/4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讯格式可编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ODEM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运行在所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系统下，性能可靠、稳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业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大的数据备份、数据维护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15296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4:52:21Z</dcterms:created>
  <dc:creator>toshiba</dc:creator>
  <dc:description/>
  <dc:language>en-US</dc:language>
  <cp:lastModifiedBy>wuyan</cp:lastModifiedBy>
  <dcterms:modified xsi:type="dcterms:W3CDTF">2004-10-11T08:50:30Z</dcterms:modified>
  <cp:revision>16</cp:revision>
  <dc:subject/>
  <dc:title> 丛文警卫中心系列软件 结构及功能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0612694</vt:r8>
  </property>
  <property fmtid="{D5CDD505-2E9C-101B-9397-08002B2CF9AE}" pid="3" name="_AuthorEmailDisplayName">
    <vt:lpwstr>/O=CONWIN/OU=DEV2/CN=RECIPIENTS/CN=CHENWEI</vt:lpwstr>
  </property>
  <property fmtid="{D5CDD505-2E9C-101B-9397-08002B2CF9AE}" pid="4" name="_EmailSubject">
    <vt:lpwstr>警卫中心简介幻灯</vt:lpwstr>
  </property>
</Properties>
</file>